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816A-7803-49B6-81F4-15FA8B55FEF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Χρειάζεται ιδιαίτερη προσοχή στα μεταλλικά αντικείμενα. Οι α-Χ έχουν διεισδυτικότητα της τάξεως των 20-200μ</a:t>
            </a:r>
            <a:r>
              <a:rPr b="0" lang="en-US" sz="1200" spc="-1" strike="noStrike">
                <a:solidFill>
                  <a:srgbClr val="000000"/>
                </a:solidFill>
                <a:latin typeface="Arial"/>
              </a:rPr>
              <a:t>m </a:t>
            </a:r>
            <a:r>
              <a:rPr b="0" lang="el-GR" sz="1200" spc="-1" strike="noStrike">
                <a:solidFill>
                  <a:srgbClr val="000000"/>
                </a:solidFill>
                <a:latin typeface="Arial"/>
              </a:rPr>
              <a:t>στην επιφάνεια του αντικειμένου, γι αυτό πρέπει να υπάρχει ιδιαίτερη προσοχή στις διαβρωμένες επιφάνειες των μεταλλικών δειγμάτων.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άθε χημικό στοιχεί στην παραπάνω διαδικασία εκπέμπει ακτίνες Χ σε αρκετά χαρακτηριστικά και διακριτά λ, που εξαρτώνται από τον ατομικό τους αριθμό Ζ και δίνονται, για τις ισχυρότερες ακτίνες Κ κ </a:t>
            </a:r>
            <a:r>
              <a:rPr b="0" lang="en-US" sz="1200" spc="-1" strike="noStrike">
                <a:solidFill>
                  <a:srgbClr val="000000"/>
                </a:solidFill>
                <a:latin typeface="Arial"/>
              </a:rPr>
              <a:t>L, </a:t>
            </a:r>
            <a:r>
              <a:rPr b="0" lang="el-GR" sz="1200" spc="-1" strike="noStrike">
                <a:solidFill>
                  <a:srgbClr val="000000"/>
                </a:solidFill>
                <a:latin typeface="Arial"/>
              </a:rPr>
              <a:t> από τις σχέσεις αυτές.</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πρωτογενής α-Χ, διαμέτρου μικρότερης από 1 χιλιοστό, λαμβάνεται από γεννήτρια α-Χ ή από ραδιοϊσότοπα όπως Αμερίκιο, κοβάλτιο, τρίτιο, κάδμιο, σίδηρο. Με περιθλασιόμετρο διαχωρίζονται οι δευτερογενείς ακτίνες στα επιμέρους λ και ανιχνεύονται είτε με σπινθηριστή είτε με αναλογικό ανιχνευτ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α ραδιοϊσότοπα διεγείρουν τα άτομα των στοιχεί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α άτομα αποβάλλουν ηλεκτρόν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κενή θέση συμπληρώνεται από άλλα ηλεκτρόνια κι εκπέμπεται ακτινοβολία φθορισμού ή δευτερογενείς α-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ένταση της εκπεμπόμενης ακτινοβολίας (είναι χαρακτηριστική για τα άτομα κάθε στοιχείου) αναλύετα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πό την ανάλυση βρίσκεται το ποσοστό κάθε στοιχείου στο δείγμα.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αρχάς γίνεται βομβαρδισμός με βραδέα ή θερμικά νετρόν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κολουθεί αλληλεπίδραση των νετρονίων με τους πυρήνες των ατόμων των στοιχείων του δείγματος και γίνεται μετατροπή τους σε ασταθή ραδιενεργά ισότοπα. Τα ραδιενεργά αυτά ισότοπα διασπώνται και σχηματίζουν σταθερά ισότοπα με χρόνο ημιζωής εξαρτώμενο από κάθε ισότοπο, και που μπορεί να διαρκέσει από λίγα δευτερόλεπτα έως χιλιάδες χρόνι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διάσπαση εκπέμπεται γ ακτινοβολία ενεργειών από 0,1 έως 2</a:t>
            </a:r>
            <a:r>
              <a:rPr b="0" lang="en-US" sz="1200" spc="-1" strike="noStrike">
                <a:solidFill>
                  <a:srgbClr val="000000"/>
                </a:solidFill>
                <a:latin typeface="Arial"/>
              </a:rPr>
              <a:t>MeV</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κπεμπόμενες γ ακτίνες έχουν συγκεκριμένες ενέργειες που είναι χαρακτηριστικές του αντίστοιχου στοιχείου που διεγείρεται με βραδέα νετρόνια.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Χρησιμοποιείται στη μελέτη λεπτών τομών , με τη βοήθεια διερχόμενου φωτ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τράπεζα έχει κυκλικό σχήμα και μπορεί να περιστραφεί πλήρως. Στο κέντρο της βάσης υπάρχει μια οπή από την οποία διέρχεται φώς μέσω των δειγμάτων και κατά μήκος του οπτικού συστήματος. Τροχοί εστίασης μετακινούν την τράπεζα, ώστε να πλησιάζει ή να απομακρύνεται από το φακ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άτω από την επιφάνεια παρατήρησης υπάρχει μια δευτερεύουσα επιφάνεια, η οποία είναι ένα κυλινδρικό μεταλλικό στέγασμα μέσα στο οποίο υπάρχει συγκεντρωτικός φακός, που εξασφαλίζει την ισομερή διάχυση φωτός στα δείγματα, ένα διάφραγμα που ελέγχει την ένταση του διερχόμενου φωτός κι ένας πολωτής από πολαροειδές φύλλο, το οποίο μετακινείται μαζί με την τράπεζ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ι προσοφθάλμιοι φακοί και οι αντικειμενικοί φακοί είναι συστήματα 2 ή και περισσότερων φακών για την καλύτερη όραση και την καλύτερη συγκέντρωση του φωτ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 αναλυτής είναι ένα φύλλο διπλοθλαστικού υλικού στηριγμένο σε μεταλλικό στέγασμα που μπορεί κατά βούληση να πιέζεται μέσα κι έξω στο οπτικό σύστημα. Αυτό είναι ιδιαίτερα χρήσιμο στις πετρολογικές παρατηρήσεις.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ΦΟΕ στηρίζεται στο φυσικό φαινόμενο της διέγερσης των εξωτερικών ηλεκτρονίων των ατόμων στο υπό ανάλυση δείγμα. Η απελευθερωμένη ενέργεια κατά την επιστροφή των ηλεκτρονίων στην αρχική τους θέση, στη ζώνη σθένους, εμφανίζεται σαν ορατό φώς ή πλησίον της υπεριώδους ακτινοβολίας.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εία επιφάνεια τομής από το υλικό εξετάζεται σε ανακλώμενο φώς. Αποκοπή ιδανικά μικρής φέτας , η οποία στιλβώνεται σε επίπεδη και λεία επιφάνεια και χαράσσεται με οξύ για να αποκαλυφθεί η εσωτερική δομ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ποκαλύπτεται η εσωτερική δομή του μετάλλου που δίνει πληροφορίες για θερμικές και μηχανικές διαδικασίες τις οποίες υπέστη το μέταλλο. Δε δίνει δεδομένα σύστ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ι λεπτομέρειες της εσωτερικής δομής αναγνωρίζονται σαν κοντράστ στη φωτεινότητα και τη λαμπρότητα.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ηλεκτρονικό μικροσκόπιο σάρωσης δέσμη ηλεκτρονίων υψηλής ενέργειας διέρχεται μέσα από ακολουθία μαγνητικών φακών που σμικρύνουν τη διάμετρο της δέσμης, ώστε η ακτινοβολούμενη επιφάνεια να είναι στα 2,5 </a:t>
            </a:r>
            <a:r>
              <a:rPr b="0" lang="en-US" sz="1200" spc="-1" strike="noStrike">
                <a:solidFill>
                  <a:srgbClr val="000000"/>
                </a:solidFill>
                <a:latin typeface="Arial"/>
              </a:rPr>
              <a:t>x</a:t>
            </a:r>
            <a:r>
              <a:rPr b="0" lang="el-GR" sz="1200" spc="-1" strike="noStrike">
                <a:solidFill>
                  <a:srgbClr val="000000"/>
                </a:solidFill>
                <a:latin typeface="Arial"/>
              </a:rPr>
              <a:t> 10-2 μ</a:t>
            </a:r>
            <a:r>
              <a:rPr b="0" lang="en-US" sz="1200" spc="-1" strike="noStrike">
                <a:solidFill>
                  <a:srgbClr val="000000"/>
                </a:solidFill>
                <a:latin typeface="Arial"/>
              </a:rPr>
              <a:t>m</a:t>
            </a:r>
            <a:r>
              <a:rPr b="0" lang="el-GR" sz="1200" spc="-1" strike="noStrike">
                <a:solidFill>
                  <a:srgbClr val="000000"/>
                </a:solidFill>
                <a:latin typeface="Arial"/>
              </a:rPr>
              <a:t>. Λαμβάνουν χώρα πολλές αλληλεπιδράσεις στο δείγμα με αποτέλεσμα την εκπομπή ηλεκτρονίων ή φωτονί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έσμη ηλεκτρονίων που προσπίπτει πάνω στο  δείγμα αλληλεπιδρά με τα άτομα του δείγματος και παράγεται χαρακτηριστική ακτινοβολία και σωματίδια που μεταφέρουν την πληροφορία για το υλικό. Η πληροφορία λαμβάνεται από τα σκεδαζόμενα και τα μη σκεδαζόμενα ηλεκτρόνια διέλευσης, από ηλεκτρόνια οπισθοσκέδασησ και δευτερογενή ηλεκτρόνια και από τα εκπεμπόμενα φωτόνια, ακτίνες Χ. τα αποτελέσματα προβάλλονται σε φθορίζουσα οθόνη ως φωτεινές και σκοτεινές περιοχές.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Διάγραμμα συσκευήσ φασματόμετρου οπτικής εκπομπ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δείγμα τοποθετείται στο ηλεκτρόδιο, το οποίο είναι κοίλο και πορώδες, από προηγούμενη θέρμανση σε φλόγ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διάλυμα μεταφέρεται βαθμιαία στον πυθμένα όπου και εξαερώνεται, με αποτέλεσμα τα άτομα να διεγείρονται από εκκένωση σπινθήρα που δημιουργείται μεταξύ των δυο ηλεκτροδίων.</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φώς που εκπέμπεται αποτελείται από διακριτά λ ή φασματικές γραμμές, που ισοδυναμούν με χαρακτηριστικά του κάθε στοιχείου που διεγείρε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θορίζοντας επομένως τα συγκεκριμένα λ μπορούμε να αναγνωρίσουμε τα χημικά στοιχεία που εντοπίζονται στο κάθε δείγμα, ενώ η ένταση του φωτός που εκπέμπεται ισοδυναμεί με τη συγκέντρωση του στοιχείου στο δείγμ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λ  καθορίζεται με πρίσμα ή περιθλασιόμετρο και ανιχνεύεται με φωτογραφική πλάκα ή φωτοπολλαπλασιαστ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μελέτη του φωτός που εκπέμπεται, επομένως της συγκέντρωσης του εκάστοτε στοιχείου, περιορίζεται σε μήκη κύματος λ&lt;0,2μ</a:t>
            </a:r>
            <a:r>
              <a:rPr b="0" lang="en-US" sz="1200" spc="-1" strike="noStrike">
                <a:solidFill>
                  <a:srgbClr val="000000"/>
                </a:solidFill>
                <a:latin typeface="Arial"/>
              </a:rPr>
              <a:t>m</a:t>
            </a:r>
            <a:r>
              <a:rPr b="0" lang="el-GR" sz="1200" spc="-1" strike="noStrike">
                <a:solidFill>
                  <a:srgbClr val="000000"/>
                </a:solidFill>
                <a:latin typeface="Arial"/>
              </a:rPr>
              <a:t>. Το φώς μικρότερου λ απορροφάται από τον αέ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ιχνεύονται περίπου 30-40 στοιχεία σημαντικά για τη χρονολόγηση κεραμικών, μπρούτζου, γυαλιού και οψιανού.</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έσμη ακτίνας </a:t>
            </a:r>
            <a:r>
              <a:rPr b="0" lang="en-US" sz="1200" spc="-1" strike="noStrike">
                <a:solidFill>
                  <a:srgbClr val="000000"/>
                </a:solidFill>
                <a:latin typeface="Arial"/>
              </a:rPr>
              <a:t>laser</a:t>
            </a:r>
            <a:r>
              <a:rPr b="0" lang="el-GR" sz="1200" spc="-1" strike="noStrike">
                <a:solidFill>
                  <a:srgbClr val="000000"/>
                </a:solidFill>
                <a:latin typeface="Arial"/>
              </a:rPr>
              <a:t>, διαμέτρου 100μ</a:t>
            </a:r>
            <a:r>
              <a:rPr b="0" lang="en-US" sz="1200" spc="-1" strike="noStrike">
                <a:solidFill>
                  <a:srgbClr val="000000"/>
                </a:solidFill>
                <a:latin typeface="Arial"/>
              </a:rPr>
              <a:t>m</a:t>
            </a:r>
            <a:r>
              <a:rPr b="0" lang="el-GR" sz="1200" spc="-1" strike="noStrike">
                <a:solidFill>
                  <a:srgbClr val="000000"/>
                </a:solidFill>
                <a:latin typeface="Arial"/>
              </a:rPr>
              <a:t>, προσπίπτει σε συγκεκριμένη και κατάλληλη επιφάνεια του τέχνεργου, ακολουθεί από τη σύντομη ακτίνα, εξάχνωση λίγων μικρογραμμαρίων. Με βοηθητική εκκένωση σπινθήρα διεγείρονται τα άτομα στον ατμό εξάχνω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ιο σύντομη μέθοδος</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δείγμα τοποθετείται σε διάλυμα με ισχυρά οξέα, τα οποία μπορεί να είναι για τα μεν μέταλλα, νιτρικό οξύ με υδροχλωρικό οξύ και για τα μη μέταλλα υδροφθορικό και υπερχλωρικό οξ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ρέπει αρχικά να επιλεχθεί ένα συγκεκριμένο χημικό στοιχείο το οποίο θα ανιχνέυσουμε για τη χρονολόγηση.</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ηματίζεται εκνέφωση σε λίγα </a:t>
            </a:r>
            <a:r>
              <a:rPr b="0" lang="en-US" sz="1200" spc="-1" strike="noStrike">
                <a:solidFill>
                  <a:srgbClr val="000000"/>
                </a:solidFill>
                <a:latin typeface="Arial"/>
              </a:rPr>
              <a:t>ml</a:t>
            </a:r>
            <a:r>
              <a:rPr b="0" lang="el-GR" sz="1200" spc="-1" strike="noStrike">
                <a:solidFill>
                  <a:srgbClr val="000000"/>
                </a:solidFill>
                <a:latin typeface="Arial"/>
              </a:rPr>
              <a:t> του διαλύματος ώστε να σχηματίσουν λεπτό ψεκασμοί οποίος μεταφέρεται σε κατάλληλη φλόγα, όπου το διάλυμα ατομικοποιείται, δηλαδή δημιουργείται ατμόσφαιρα ατόμ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ην άλλη πλευρά μια πηγή φωτός καθορισμένου λ με ακρίβεια, από καθοδική λυχνία, εκπέμπει μονοχρωματική δέσμη η οποία εστιάζει στο κέντρο της φλόγας. Η φλόγα μπορεί να είναι ακετυλένιο με νιτρώδες οξείδιο ή αέ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ά τη διέλευση μέσα από το εκνέφωμα αυτό η μονοχρωματική ακτινοβολία απορροφάται μερικώς από τα άτομα του στοιχείου του οποίου η συγκέντρωση αναζητάτε. Η δέσμη που τελικά διέρχεται από το εκνέφωμα προσπίπτει σε πρίσμα και διέρχεται από μονοχρωματικό αναλυτή, ο οποίος επιτρέπει τη διέλευση χαρακτηριστικού λ και τη διαχωρίζει από το υπόστρωμα φωτός</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ελική ένταση Ι του μονοχρωματικού φωτός με το χαρακτηριστικό λ μετράται με φωτοπολλαπλασιαστή και εμφανίζεται σε καταγραφικό ή σε οθόν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ένταση Ιτ του καταγραφόμενου λ συγκρίνεται με την αρχική ένταση Ιο του χαρακτηριστικού λ της μονοχρωματικής δέσμης όπως ακριβώς αυτή εξήλθε από την πηγ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οσοστό της απορρόφησης της δέσμης που εξαρτάται από το επιλεγμένο προς ανίχνευση στοιχείο μετράται σε όρους απορροφητικότητας Α και δίνεται από τον τύπο Α= </a:t>
            </a:r>
            <a:r>
              <a:rPr b="0" lang="en-US" sz="1200" spc="-1" strike="noStrike">
                <a:solidFill>
                  <a:srgbClr val="000000"/>
                </a:solidFill>
                <a:latin typeface="Arial"/>
              </a:rPr>
              <a:t>log Io/I</a:t>
            </a:r>
            <a:r>
              <a:rPr b="0" lang="el-GR" sz="1200" spc="-1" strike="noStrike">
                <a:solidFill>
                  <a:srgbClr val="000000"/>
                </a:solidFill>
                <a:latin typeface="Arial"/>
              </a:rPr>
              <a:t>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κολούθως με την ίδια διαδικασία προσδιορίζονται και τα υπόλοιπα χημικά στοιχεία της σύστασης του προς μελέτη τέχνεργ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κάθε χημ. Στοιχείο χρησιμοποιείται δέσμη μονοχρωματικού φωτός διαφορετικού σταθερού 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ρείς κλασικές αναλυτικές μέθοδοι ακτίνων 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Διαφέρουν ως προς τις συσκευές, ως προς τις φυσικές αρχές στις οποίες βασίζονται και ως προς το είδος της πληροφορίας που λαμβάνεται.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62B5D-52BA-4473-AD93-846C45012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9CA85-479B-4908-8BDB-251A8B43E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4CEB7-649B-4293-A0C5-336685E46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9FB3B-F75F-409D-8CD0-BEF81BEC2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57CD1-38D7-4024-9F51-0BD1DA6F4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EB1BB-2472-44A8-98EF-424B6F1E0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57D89-7DA3-4364-ACBA-4549DCBD6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75A8B-7114-4000-A568-0DDEA191A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F4651-48B0-449B-AB5A-088A240FD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435D5-3047-4460-B8EB-29D8DE244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BC15C-3C15-4AFB-8114-47A2B7F3C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B0233-3459-4573-8747-39C95C952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7B9F-7E40-4CDE-ABF3-087E5539EE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l-GR" sz="4400" spc="-1" strike="noStrike">
                <a:solidFill>
                  <a:srgbClr val="000000"/>
                </a:solidFill>
                <a:latin typeface="Arial"/>
              </a:rPr>
              <a:t>προσδιορισμός χημικής σύστασης</a:t>
            </a:r>
            <a:r>
              <a:rPr b="0" lang="en-US" sz="4400" spc="-1" strike="noStrike">
                <a:solidFill>
                  <a:srgbClr val="000000"/>
                </a:solidFill>
                <a:latin typeface="Arial"/>
              </a:rPr>
              <a:t> </a:t>
            </a:r>
            <a:r>
              <a:rPr b="0" lang="el-GR" sz="4400" spc="-1" strike="noStrike">
                <a:solidFill>
                  <a:srgbClr val="000000"/>
                </a:solidFill>
                <a:latin typeface="Arial"/>
              </a:rPr>
              <a:t>αρχαιολογικών αντικειμένων</a:t>
            </a:r>
            <a:endParaRPr b="0" lang="en-US" sz="4400" spc="-1" strike="noStrike">
              <a:solidFill>
                <a:srgbClr val="000000"/>
              </a:solidFill>
              <a:latin typeface="Arial"/>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Α</a:t>
            </a:r>
            <a:r>
              <a:rPr b="0" lang="en-US" sz="4400" spc="-1" strike="noStrike">
                <a:solidFill>
                  <a:srgbClr val="000000"/>
                </a:solidFill>
                <a:latin typeface="Arial"/>
              </a:rPr>
              <a:t> </a:t>
            </a:r>
            <a:r>
              <a:rPr b="0" lang="el-GR" sz="4400" spc="-1" strike="noStrike">
                <a:solidFill>
                  <a:srgbClr val="000000"/>
                </a:solidFill>
                <a:latin typeface="Arial"/>
              </a:rPr>
              <a:t>μέρος</a:t>
            </a:r>
            <a:endParaRPr b="0" lang="en-US" sz="4400" spc="-1" strike="noStrike">
              <a:solidFill>
                <a:srgbClr val="000000"/>
              </a:solidFill>
              <a:latin typeface="Arial"/>
            </a:endParaRPr>
          </a:p>
          <a:p>
            <a:pPr marL="60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0"/>
            <a:ext cx="9144000" cy="6524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ονολογεί κεραμικά σκεύη, πηλούς γενικότερα, ιζήματα από ανασκαφές, οψιανούς, ασβεστόλιθους, ηφαιστειακά πετρώματα, π.χ. γρανίτη, φαγεντιανή, μεταλλικά αντικείμενα, γυάλινα αντικείμενα, χρωστικές, τοιχογραφίες, στιλβώματα, επιχρίσματα.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δανικότερη μέθοδος κυρίως για στιλβώματα, επιχρίσματα, λόγω της χαμηλής διεισδυτικότητας των ακτίνων 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η καταστροφική μέθοδο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ήση συσκευών φορητών (σε μεγάλου μεγέθους αντικείμενα) και μη (σε μικρού μεγέθους αντικείμενα).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ειγματοληψία</a:t>
            </a:r>
            <a:r>
              <a:rPr b="0" lang="el-GR" sz="2800" spc="-1" strike="noStrike">
                <a:solidFill>
                  <a:srgbClr val="000000"/>
                </a:solidFill>
                <a:latin typeface="Wingdings"/>
                <a:ea typeface="Wingdings"/>
              </a:rPr>
              <a:t></a:t>
            </a:r>
            <a:r>
              <a:rPr b="0" lang="el-GR" sz="2800" spc="-1" strike="noStrike">
                <a:solidFill>
                  <a:srgbClr val="000000"/>
                </a:solidFill>
                <a:latin typeface="Arial"/>
              </a:rPr>
              <a:t> δεν υπάρχει συγκεκριμένη διαδικασί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φάλμα </a:t>
            </a:r>
            <a:r>
              <a:rPr b="0" lang="en-US" sz="2800" spc="-1" strike="noStrike">
                <a:solidFill>
                  <a:srgbClr val="000000"/>
                </a:solidFill>
                <a:latin typeface="Arial"/>
              </a:rPr>
              <a:t>±</a:t>
            </a:r>
            <a:r>
              <a:rPr b="0" lang="el-GR" sz="2800" spc="-1" strike="noStrike">
                <a:solidFill>
                  <a:srgbClr val="000000"/>
                </a:solidFill>
                <a:latin typeface="Arial"/>
              </a:rPr>
              <a:t>5%</a:t>
            </a:r>
            <a:endParaRPr b="0" lang="en-US" sz="2800" spc="-1" strike="noStrike">
              <a:solidFill>
                <a:srgbClr val="000000"/>
              </a:solidFill>
              <a:latin typeface="Arial"/>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μέθοδος βασίζεται στο φαινόμενο της μετακίνησης ηλεκτρονίων από τις εξωτερικές στοιβάδες του ατόμου εκτός των ατόμων, μετά από την ακτινοβόλησή τους με πρωτογενείς ακτίνες Χ, οι οποίες απορροφώνται από το εκτοπιζόμενο ηλεκτρόνιο, του οποίου η θέση στη στοιβάδα καλύπτεται από ηλεκτρόνιο της αμέσως επόμενης</a:t>
            </a:r>
            <a:r>
              <a:rPr b="0" lang="en-US" sz="2800" spc="-1" strike="noStrike">
                <a:solidFill>
                  <a:srgbClr val="000000"/>
                </a:solidFill>
                <a:latin typeface="Arial"/>
              </a:rPr>
              <a:t> </a:t>
            </a:r>
            <a:r>
              <a:rPr b="0" lang="el-GR" sz="2800" spc="-1" strike="noStrike">
                <a:solidFill>
                  <a:srgbClr val="000000"/>
                </a:solidFill>
                <a:latin typeface="Arial"/>
              </a:rPr>
              <a:t>στοιβάδας, η μετακίνηση του οποίου εκπέμπει δευτερογενή ακτίνα Χ, με λ από 2</a:t>
            </a:r>
            <a:r>
              <a:rPr b="0" lang="en-US" sz="2800" spc="-1" strike="noStrike">
                <a:solidFill>
                  <a:srgbClr val="000000"/>
                </a:solidFill>
                <a:latin typeface="Arial"/>
              </a:rPr>
              <a:t>x10</a:t>
            </a:r>
            <a:r>
              <a:rPr b="0" lang="en-US" sz="2800" spc="-1" strike="noStrike" baseline="30000">
                <a:solidFill>
                  <a:srgbClr val="000000"/>
                </a:solidFill>
                <a:latin typeface="Arial"/>
              </a:rPr>
              <a:t>-5</a:t>
            </a:r>
            <a:r>
              <a:rPr b="0" lang="el-GR" sz="2800" spc="-1" strike="noStrike">
                <a:solidFill>
                  <a:srgbClr val="000000"/>
                </a:solidFill>
                <a:latin typeface="Arial"/>
              </a:rPr>
              <a:t> έως</a:t>
            </a:r>
            <a:r>
              <a:rPr b="0" lang="en-US" sz="2800" spc="-1" strike="noStrike">
                <a:solidFill>
                  <a:srgbClr val="000000"/>
                </a:solidFill>
                <a:latin typeface="Arial"/>
              </a:rPr>
              <a:t> 2x10</a:t>
            </a:r>
            <a:r>
              <a:rPr b="0" lang="en-US" sz="2800" spc="-1" strike="noStrike" baseline="30000">
                <a:solidFill>
                  <a:srgbClr val="000000"/>
                </a:solidFill>
                <a:latin typeface="Arial"/>
              </a:rPr>
              <a:t>-4</a:t>
            </a:r>
            <a:r>
              <a:rPr b="0" lang="el-GR" sz="2800" spc="-1" strike="noStrike" baseline="30000">
                <a:solidFill>
                  <a:srgbClr val="000000"/>
                </a:solidFill>
                <a:latin typeface="Arial"/>
              </a:rPr>
              <a:t> </a:t>
            </a:r>
            <a:r>
              <a:rPr b="0" lang="el-GR" sz="2800" spc="-1" strike="noStrike">
                <a:solidFill>
                  <a:srgbClr val="000000"/>
                </a:solidFill>
                <a:latin typeface="Arial"/>
              </a:rPr>
              <a:t>μ</a:t>
            </a:r>
            <a:r>
              <a:rPr b="0" lang="en-US" sz="2800" spc="-1" strike="noStrike">
                <a:solidFill>
                  <a:srgbClr val="000000"/>
                </a:solidFill>
                <a:latin typeface="Arial"/>
              </a:rPr>
              <a:t>m.</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λ</a:t>
            </a:r>
            <a:r>
              <a:rPr b="0" lang="el-GR" sz="2800" spc="-1" strike="noStrike" baseline="-25000">
                <a:solidFill>
                  <a:srgbClr val="000000"/>
                </a:solidFill>
                <a:latin typeface="Arial"/>
              </a:rPr>
              <a:t>κ</a:t>
            </a:r>
            <a:r>
              <a:rPr b="0" lang="el-GR" sz="2800" spc="-1" strike="noStrike">
                <a:solidFill>
                  <a:srgbClr val="000000"/>
                </a:solidFill>
                <a:latin typeface="Arial"/>
              </a:rPr>
              <a:t>=0,12/(Ζ-1)</a:t>
            </a:r>
            <a:r>
              <a:rPr b="0" lang="el-GR" sz="2800" spc="-1" strike="noStrike" baseline="30000">
                <a:solidFill>
                  <a:srgbClr val="000000"/>
                </a:solidFill>
                <a:latin typeface="Arial"/>
              </a:rPr>
              <a:t>2</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λ</a:t>
            </a:r>
            <a:r>
              <a:rPr b="0" lang="en-US" sz="2800" spc="-1" strike="noStrike" baseline="-25000">
                <a:solidFill>
                  <a:srgbClr val="000000"/>
                </a:solidFill>
                <a:latin typeface="Arial"/>
              </a:rPr>
              <a:t>L</a:t>
            </a:r>
            <a:r>
              <a:rPr b="0" lang="el-GR" sz="2800" spc="-1" strike="noStrike">
                <a:solidFill>
                  <a:srgbClr val="000000"/>
                </a:solidFill>
                <a:latin typeface="Arial"/>
              </a:rPr>
              <a:t>=0,65/(Ζ-7,4)</a:t>
            </a:r>
            <a:r>
              <a:rPr b="0" lang="el-GR" sz="2800" spc="-1" strike="noStrike" baseline="30000">
                <a:solidFill>
                  <a:srgbClr val="000000"/>
                </a:solidFill>
                <a:latin typeface="Arial"/>
              </a:rPr>
              <a:t>2</a:t>
            </a:r>
            <a:r>
              <a:rPr b="0" lang="el-GR" sz="2800" spc="-1" strike="noStrike">
                <a:solidFill>
                  <a:srgbClr val="000000"/>
                </a:solidFill>
                <a:latin typeface="Arial"/>
              </a:rPr>
              <a:t> </a:t>
            </a:r>
            <a:endParaRPr b="0" lang="en-US" sz="2800" spc="-1" strike="noStrike">
              <a:solidFill>
                <a:srgbClr val="000000"/>
              </a:solidFill>
              <a:latin typeface="Arial"/>
            </a:endParaRP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4000" y="6253200"/>
            <a:ext cx="8229600" cy="6048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Πηγή: Λυριτζής Ι., 2007, </a:t>
            </a:r>
            <a:r>
              <a:rPr b="0" i="1" lang="en-US" sz="2000" spc="-1" strike="noStrike">
                <a:solidFill>
                  <a:srgbClr val="000000"/>
                </a:solidFill>
                <a:latin typeface="Arial"/>
              </a:rPr>
              <a:t>Φυσικές Επιστήμες στην Αρχαιολογία, </a:t>
            </a:r>
            <a:r>
              <a:rPr b="0" lang="en-US" sz="2000" spc="-1" strike="noStrike">
                <a:solidFill>
                  <a:srgbClr val="000000"/>
                </a:solidFill>
                <a:latin typeface="Arial"/>
              </a:rPr>
              <a:t>Εκδόσεις Δάρδανος Τυπωθήτω, Αθήνα, σ.σ. 147</a:t>
            </a:r>
            <a:endParaRPr b="0" lang="en-US" sz="2000" spc="-1" strike="noStrike">
              <a:solidFill>
                <a:srgbClr val="000000"/>
              </a:solidFill>
              <a:latin typeface="Arial"/>
            </a:endParaRPr>
          </a:p>
        </p:txBody>
      </p:sp>
      <p:pic>
        <p:nvPicPr>
          <p:cNvPr id="65" name="" descr=""/>
          <p:cNvPicPr/>
          <p:nvPr/>
        </p:nvPicPr>
        <p:blipFill>
          <a:blip r:embed="rId2">
            <a:lum bright="12000"/>
          </a:blip>
          <a:stretch/>
        </p:blipFill>
        <p:spPr>
          <a:xfrm>
            <a:off x="0" y="692280"/>
            <a:ext cx="9150480" cy="5233680"/>
          </a:xfrm>
          <a:prstGeom prst="rect">
            <a:avLst/>
          </a:prstGeom>
          <a:ln w="0">
            <a:noFill/>
          </a:ln>
        </p:spPr>
      </p:pic>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 προσδιορισμός των λ των δευτερογενών ακτίνων Χ που εκπέμπονται προσφέρει τη βάση για αναγνώριση των στοιχείων στο δείγμ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 προσδιορισμός της έντασης των ακτίνων Χ σε συγκεκριμένο λ εκτιμά τη συγκέντρωση του στοιχείου.</a:t>
            </a:r>
            <a:endParaRPr b="0" lang="en-US" sz="3200" spc="-1" strike="noStrike">
              <a:solidFill>
                <a:srgbClr val="000000"/>
              </a:solidFill>
              <a:latin typeface="Arial"/>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φαρμογή άμεσα στο αντικείμεν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Δεν εφαρμόζεται σε όλα τα υλικά λόγω της μικρής διεισδυτικότητα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εριορίζεται σε στοιχεία με κατώτατο όριο ανίχνευσης στο Ζ=22 (τιτάνιο). Με μετρήσεις σε κενό αέρος μπορεί να προσεγγιστούν και στοιχεία με μικρότερο Ζ, της τάξεως του μαγνησίου με Ζ=12</a:t>
            </a:r>
            <a:endParaRPr b="0" lang="en-US" sz="3200" spc="-1" strike="noStrike">
              <a:solidFill>
                <a:srgbClr val="000000"/>
              </a:solidFill>
              <a:latin typeface="Arial"/>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Ανάλυση με νετρόνια, ή νετρονική ενεργοποίηση</a:t>
            </a:r>
            <a:br>
              <a:rPr sz="4000"/>
            </a:br>
            <a:r>
              <a:rPr b="0" lang="en-US" sz="4000" spc="-1" strike="noStrike">
                <a:solidFill>
                  <a:srgbClr val="000000"/>
                </a:solidFill>
                <a:latin typeface="Arial"/>
              </a:rPr>
              <a:t>ΑΝΕ</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ονολογεί κεραμικά, πετρώματα, γυαλιά, οψιανούς, φαγεντιανή, ιζήματα, μέταλλα, πυριτόλιθου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ασίζεται στο βομβαρδισμό των πυρήνων των ατόμων των στοιχείων του δείγματος από νετρόνια και στην αντίδραση των πυρήνων αυτών με εκπομπή ακτίνων γ.</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ειγματοληψία</a:t>
            </a:r>
            <a:r>
              <a:rPr b="0" lang="el-GR" sz="2800" spc="-1" strike="noStrike">
                <a:solidFill>
                  <a:srgbClr val="000000"/>
                </a:solidFill>
                <a:latin typeface="Wingdings"/>
                <a:ea typeface="Wingdings"/>
              </a:rPr>
              <a:t></a:t>
            </a:r>
            <a:r>
              <a:rPr b="0" lang="el-GR" sz="2800" spc="-1" strike="noStrike">
                <a:solidFill>
                  <a:srgbClr val="000000"/>
                </a:solidFill>
                <a:latin typeface="Arial"/>
              </a:rPr>
              <a:t> 50-100</a:t>
            </a:r>
            <a:r>
              <a:rPr b="0" lang="en-US" sz="2800" spc="-1" strike="noStrike">
                <a:solidFill>
                  <a:srgbClr val="000000"/>
                </a:solidFill>
                <a:latin typeface="Arial"/>
              </a:rPr>
              <a:t>mg</a:t>
            </a:r>
            <a:r>
              <a:rPr b="0" lang="el-GR" sz="2800" spc="-1" strike="noStrike">
                <a:solidFill>
                  <a:srgbClr val="000000"/>
                </a:solidFill>
                <a:latin typeface="Arial"/>
              </a:rPr>
              <a:t> αντικειμένου, σε μορφή δισκίου. Στα μικρού μεγέθους αντικείμενα, όπως νομίσματα, η ανάλυση μπορεί να γίνει χωρίς την απόσπαση δείγματο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φάλμα &lt;</a:t>
            </a:r>
            <a:r>
              <a:rPr b="0" lang="en-US" sz="2800" spc="-1" strike="noStrike">
                <a:solidFill>
                  <a:srgbClr val="000000"/>
                </a:solidFill>
                <a:latin typeface="Arial"/>
              </a:rPr>
              <a:t>±</a:t>
            </a:r>
            <a:r>
              <a:rPr b="0" lang="el-GR" sz="2800" spc="-1" strike="noStrike">
                <a:solidFill>
                  <a:srgbClr val="000000"/>
                </a:solidFill>
                <a:latin typeface="Arial"/>
              </a:rPr>
              <a:t>5%</a:t>
            </a:r>
            <a:endParaRPr b="0" lang="en-US" sz="2800" spc="-1" strike="noStrike">
              <a:solidFill>
                <a:srgbClr val="000000"/>
              </a:solidFill>
              <a:latin typeface="Arial"/>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ι ενέργειες των ακτίνων γ που εκπέμπονται από το δείγμα προσφέρουν τη βάση για την αναγνώριση των στοιχεί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ένταση των ακτίνων γ δίνουν τη συγκέντρωση σε ποσοστό επί τοις εκατό του στοιχείου που βρίσκεται στο δείγμα.</a:t>
            </a:r>
            <a:endParaRPr b="0" lang="en-US" sz="3200" spc="-1" strike="noStrike">
              <a:solidFill>
                <a:srgbClr val="000000"/>
              </a:solidFill>
              <a:latin typeface="Arial"/>
            </a:endParaRPr>
          </a:p>
        </p:txBody>
      </p:sp>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Μικροσκοπικές μέθοδοι</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ετρογραφικό μικροσκόπιο</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εταλλογραφικό μικροσκόπιο</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λεκτρονικό μικροσκόπιο</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Λοιπές μη καταστροφικές φωτογραφικές τεχνικές</a:t>
            </a:r>
            <a:endParaRPr b="0" lang="en-US" sz="3200" spc="-1" strike="noStrike">
              <a:solidFill>
                <a:srgbClr val="000000"/>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Πετρογραφικό μικροσκόπιο</a:t>
            </a:r>
            <a:endParaRPr b="0" lang="en-US" sz="4400" spc="-1" strike="noStrike">
              <a:solidFill>
                <a:srgbClr val="000000"/>
              </a:solidFill>
              <a:latin typeface="Arial"/>
            </a:endParaRPr>
          </a:p>
        </p:txBody>
      </p:sp>
      <p:sp>
        <p:nvSpPr>
          <p:cNvPr id="74" name="PlaceHolder 2"/>
          <p:cNvSpPr>
            <a:spLocks noGrp="1"/>
          </p:cNvSpPr>
          <p:nvPr>
            <p:ph/>
          </p:nvPr>
        </p:nvSpPr>
        <p:spPr>
          <a:xfrm>
            <a:off x="539640" y="6108480"/>
            <a:ext cx="8229600" cy="74916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Πηγή: Λυριτζής Ι., 2007, </a:t>
            </a:r>
            <a:r>
              <a:rPr b="0" i="1" lang="en-US" sz="2000" spc="-1" strike="noStrike">
                <a:solidFill>
                  <a:srgbClr val="000000"/>
                </a:solidFill>
                <a:latin typeface="Arial"/>
              </a:rPr>
              <a:t>Φυσικές Επιστήμες στην Αρχαιολογία, </a:t>
            </a:r>
            <a:r>
              <a:rPr b="0" lang="en-US" sz="2000" spc="-1" strike="noStrike">
                <a:solidFill>
                  <a:srgbClr val="000000"/>
                </a:solidFill>
                <a:latin typeface="Arial"/>
              </a:rPr>
              <a:t>Εκδόσεις Δάρδανος Τυπωθήτω, Αθήνα, σ.σ. 195</a:t>
            </a:r>
            <a:endParaRPr b="0" lang="en-US" sz="2000" spc="-1" strike="noStrike">
              <a:solidFill>
                <a:srgbClr val="000000"/>
              </a:solidFill>
              <a:latin typeface="Arial"/>
            </a:endParaRPr>
          </a:p>
        </p:txBody>
      </p:sp>
      <p:pic>
        <p:nvPicPr>
          <p:cNvPr id="75" name="" descr=""/>
          <p:cNvPicPr/>
          <p:nvPr/>
        </p:nvPicPr>
        <p:blipFill>
          <a:blip r:embed="rId2"/>
          <a:stretch/>
        </p:blipFill>
        <p:spPr>
          <a:xfrm>
            <a:off x="2987640" y="1268280"/>
            <a:ext cx="3240000" cy="4608720"/>
          </a:xfrm>
          <a:prstGeom prst="rect">
            <a:avLst/>
          </a:prstGeom>
          <a:ln w="0">
            <a:noFill/>
          </a:ln>
        </p:spPr>
      </p:pic>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πετρογραφική εξέταση γίνεται για την αναγνώριση των πετρωμάτων των λίθινων εργαλείω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ρχική απόσπαση τμήματος υλικού 1 χιλιοστού και επιφάνειας 2 τετραγωνικών εκατοστώ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Λείανση μέχρι κατοπτρικού σημείο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πικόλληση σε γυάλινη επιφάνεια και συνέχεια λείανσης έως πάχος 30μ</a:t>
            </a:r>
            <a:r>
              <a:rPr b="0" lang="en-US" sz="3200" spc="-1" strike="noStrike">
                <a:solidFill>
                  <a:srgbClr val="000000"/>
                </a:solidFill>
                <a:latin typeface="Arial"/>
              </a:rPr>
              <a:t>m</a:t>
            </a:r>
            <a:r>
              <a:rPr b="0" lang="el-GR" sz="3200" spc="-1" strike="noStrike">
                <a:solidFill>
                  <a:srgbClr val="000000"/>
                </a:solidFill>
                <a:latin typeface="Arial"/>
              </a:rPr>
              <a:t>. Από αυτό το δείγμα διέρχεται το φώς στο μικροσκόπιο. </a:t>
            </a:r>
            <a:endParaRPr b="0" lang="en-US" sz="3200" spc="-1" strike="noStrike">
              <a:solidFill>
                <a:srgbClr val="000000"/>
              </a:solidFill>
              <a:latin typeface="Arial"/>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8360" y="1341000"/>
            <a:ext cx="8229600" cy="528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Χρονολογεί τέχνεργα από κεραμικά, μπρούτζο, γυαλί και οψιανό.</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ασίζεται στο φυσικό φαινόμενο της διέγερσης των ηλεκτρονίων των ατόμων των εξωτερικών στοιβάδων στο υπό ανάλυση δείγμ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απελευθερωμένη ενέργεια εμφανίζεται σαν ορατό φώς πολύ κοντά στο υπεριώδε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ιγματοληψία</a:t>
            </a:r>
            <a:r>
              <a:rPr b="0" lang="el-GR" sz="2400" spc="-1" strike="noStrike">
                <a:solidFill>
                  <a:srgbClr val="000000"/>
                </a:solidFill>
                <a:latin typeface="Wingdings"/>
                <a:ea typeface="Wingdings"/>
              </a:rPr>
              <a:t></a:t>
            </a:r>
            <a:r>
              <a:rPr b="0" lang="el-GR" sz="2400" spc="-1" strike="noStrike">
                <a:solidFill>
                  <a:srgbClr val="000000"/>
                </a:solidFill>
                <a:latin typeface="Arial"/>
              </a:rPr>
              <a:t> 10</a:t>
            </a:r>
            <a:r>
              <a:rPr b="0" lang="en-US" sz="2400" spc="-1" strike="noStrike">
                <a:solidFill>
                  <a:srgbClr val="000000"/>
                </a:solidFill>
                <a:latin typeface="Arial"/>
              </a:rPr>
              <a:t>mg</a:t>
            </a:r>
            <a:r>
              <a:rPr b="0" lang="el-GR" sz="2400" spc="-1" strike="noStrike">
                <a:solidFill>
                  <a:srgbClr val="000000"/>
                </a:solidFill>
                <a:latin typeface="Arial"/>
              </a:rPr>
              <a:t> δείγματος, αφαιρούνται με διάτρηση με τρυπανάκι από το μεταλλικό ή κεραμικό δείγμα, τοποθετούνται σε διάλυμ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φάλμα </a:t>
            </a:r>
            <a:r>
              <a:rPr b="0" lang="en-US" sz="2400" spc="-1" strike="noStrike">
                <a:solidFill>
                  <a:srgbClr val="000000"/>
                </a:solidFill>
                <a:latin typeface="Arial"/>
              </a:rPr>
              <a:t>±</a:t>
            </a:r>
            <a:r>
              <a:rPr b="0" lang="el-GR" sz="2400" spc="-1" strike="noStrike">
                <a:solidFill>
                  <a:srgbClr val="000000"/>
                </a:solidFill>
                <a:latin typeface="Arial"/>
              </a:rPr>
              <a:t>1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σοχή να μην αποσπαστούν τμήματα εξωτερικής διάβρωσης επιφάνειας ή υάλωμα</a:t>
            </a:r>
            <a:endParaRPr b="0" lang="en-US" sz="24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Φασματοσκοπία οπτικής εκπομπής </a:t>
            </a:r>
            <a:br>
              <a:rPr sz="4000"/>
            </a:br>
            <a:r>
              <a:rPr b="0" lang="en-US" sz="4000" spc="-1" strike="noStrike">
                <a:solidFill>
                  <a:srgbClr val="000000"/>
                </a:solidFill>
                <a:latin typeface="Arial"/>
              </a:rPr>
              <a:t>ΦΟΕ</a:t>
            </a:r>
            <a:endParaRPr b="0" lang="en-US" sz="4000" spc="-1" strike="noStrike">
              <a:solidFill>
                <a:srgbClr val="000000"/>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68360" y="333360"/>
            <a:ext cx="8229600" cy="6524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άθε ορυκτό έχει μια συγκεκριμένη δομή στα άτομά του, των οποίων η διαμόρφωση προσδιορίζει το σχήμα του αδιάσπαστου κρυστάλλου.</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ομαλή διάταξη των ατόμων των ορυκτών έχει την ικανότητα να εμποδίζει τη διέλευση του φωτός και να το πολώνει </a:t>
            </a:r>
            <a:r>
              <a:rPr b="0" lang="el-GR" sz="2400" spc="-1" strike="noStrike">
                <a:solidFill>
                  <a:srgbClr val="000000"/>
                </a:solidFill>
                <a:latin typeface="Wingdings"/>
                <a:ea typeface="Wingdings"/>
              </a:rPr>
              <a:t></a:t>
            </a:r>
            <a:r>
              <a:rPr b="0" lang="el-GR" sz="2400" spc="-1" strike="noStrike">
                <a:solidFill>
                  <a:srgbClr val="000000"/>
                </a:solidFill>
                <a:latin typeface="Arial"/>
              </a:rPr>
              <a:t> ανισότροπα ορυκτά.</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άρχουν ορυκτά με μη ομαλή δομή των ατόμων τους και δεν πολώνουν το φώς </a:t>
            </a:r>
            <a:r>
              <a:rPr b="0" lang="el-GR" sz="2400" spc="-1" strike="noStrike">
                <a:solidFill>
                  <a:srgbClr val="000000"/>
                </a:solidFill>
                <a:latin typeface="Wingdings"/>
                <a:ea typeface="Wingdings"/>
              </a:rPr>
              <a:t></a:t>
            </a:r>
            <a:r>
              <a:rPr b="0" lang="el-GR" sz="2400" spc="-1" strike="noStrike">
                <a:solidFill>
                  <a:srgbClr val="000000"/>
                </a:solidFill>
                <a:latin typeface="Arial"/>
              </a:rPr>
              <a:t> ισότροπα ορυκτά.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ιδιότητες πόλωσης του κάθε ορυκτού ποικίλουν, το χαρακτηριστικό χρώμα που έχουν όταν τα προβάλλουμε σε πολωμένο φώς είναι διαφορετικό.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ην αναγνώριση των κρυστάλλων, το φώς που διέρχεται στον κρύσταλλο διαθλάται και ο βαθμός διάθλασης εξαρτάται από το ορυκτό με το οποίο σχετίζεται.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ποικιλία των βαθμών διάθλασης των ορυκτών δίνει και διαφορετικό χρώμα σε κάθε ορυκτό στο μικροσκόπιο.</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Μεταλλογραφικό μικροσκόπιο</a:t>
            </a:r>
            <a:endParaRPr b="0" lang="en-US" sz="4400" spc="-1" strike="noStrike">
              <a:solidFill>
                <a:srgbClr val="000000"/>
              </a:solidFill>
              <a:latin typeface="Arial"/>
            </a:endParaRPr>
          </a:p>
        </p:txBody>
      </p:sp>
      <p:sp>
        <p:nvSpPr>
          <p:cNvPr id="79" name="PlaceHolder 2"/>
          <p:cNvSpPr>
            <a:spLocks noGrp="1"/>
          </p:cNvSpPr>
          <p:nvPr>
            <p:ph/>
          </p:nvPr>
        </p:nvSpPr>
        <p:spPr>
          <a:xfrm>
            <a:off x="468360" y="6066000"/>
            <a:ext cx="8229600" cy="7920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Πηγή: Λυριτζής Ι., 2007, </a:t>
            </a:r>
            <a:r>
              <a:rPr b="0" i="1" lang="en-US" sz="2000" spc="-1" strike="noStrike">
                <a:solidFill>
                  <a:srgbClr val="000000"/>
                </a:solidFill>
                <a:latin typeface="Arial"/>
              </a:rPr>
              <a:t>Φυσικές Επιστήμες στην Αρχαιολογία, </a:t>
            </a:r>
            <a:r>
              <a:rPr b="0" lang="en-US" sz="2000" spc="-1" strike="noStrike">
                <a:solidFill>
                  <a:srgbClr val="000000"/>
                </a:solidFill>
                <a:latin typeface="Arial"/>
              </a:rPr>
              <a:t>Εκδόσεις Δάρδανος Τυπωθήτω, Αθήνα, σ.σ. 20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 descr=""/>
          <p:cNvPicPr/>
          <p:nvPr/>
        </p:nvPicPr>
        <p:blipFill>
          <a:blip r:embed="rId2"/>
          <a:stretch/>
        </p:blipFill>
        <p:spPr>
          <a:xfrm>
            <a:off x="2556000" y="1125360"/>
            <a:ext cx="3865320" cy="4292640"/>
          </a:xfrm>
          <a:prstGeom prst="rect">
            <a:avLst/>
          </a:prstGeom>
          <a:ln w="0">
            <a:noFill/>
          </a:ln>
        </p:spPr>
      </p:pic>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Ηλεκτρονικό μικροσκόπιο</a:t>
            </a:r>
            <a:endParaRPr b="0" lang="en-US" sz="4400" spc="-1" strike="noStrike">
              <a:solidFill>
                <a:srgbClr val="000000"/>
              </a:solidFill>
              <a:latin typeface="Arial"/>
            </a:endParaRPr>
          </a:p>
        </p:txBody>
      </p:sp>
      <p:sp>
        <p:nvSpPr>
          <p:cNvPr id="8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λεκτρονικό μικροσκόπιο σάρωση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Δέσμη ηλεκτρονίων συγκεντρώνεται σε μικρό καθετήρα κι εστιάζει σε σημείο του δείγματος, σαρώνοντας συγκεκριμένη επιφάνεια.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λεκτρονικό μικροσκόπιο διέλευση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Ηλεκτρόνια που παράγονται από θερμαινόμενο νήμα επιταχύνονται και δημιουργούν δέσμη ηλεκτρονίων υψηλής ενέργειας, η οποία εστιάζει πάνω στο δείγμα.</a:t>
            </a:r>
            <a:endParaRPr b="0" lang="en-US" sz="2800" spc="-1" strike="noStrike">
              <a:solidFill>
                <a:srgbClr val="000000"/>
              </a:solidFill>
              <a:latin typeface="Arial"/>
            </a:endParaRPr>
          </a:p>
        </p:txBody>
      </p:sp>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60" y="-360"/>
            <a:ext cx="8893080" cy="76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Άλλες μη καταστροφικές φωτογραφικές τεχνικές</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4" name=""/>
          <p:cNvGraphicFramePr/>
          <p:nvPr/>
        </p:nvGraphicFramePr>
        <p:xfrm>
          <a:off x="0" y="476280"/>
          <a:ext cx="9144000" cy="6199200"/>
        </p:xfrm>
        <a:graphic>
          <a:graphicData uri="http://schemas.openxmlformats.org/drawingml/2006/table">
            <a:tbl>
              <a:tblPr/>
              <a:tblGrid>
                <a:gridCol w="1528920"/>
                <a:gridCol w="2651040"/>
                <a:gridCol w="4964040"/>
              </a:tblGrid>
              <a:tr h="431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ΣΚΟΠΟΣ </a:t>
                      </a: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00ff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ΤΕΧΝΙΚ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ΙΕΡΕΥΝΗΣΗ ΧΑΡΑΚΤΗΡΙΣΤΙΚΩΝ</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14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οπτική εξέταση</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συμβατικός φωτισμό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χρώμα, διαφάνεια, επίστρωσ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φωτισμός υπό κλίσ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επιφανειακή παραμόρφωση, ραγίσματα και ανακλάσει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διερχόμενος φωτισμό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σχισμές μπαλώματα, απολεπίσματα, κηλίδες νερο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εγέθυνση</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Στερεομικροσκοπί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λεπτομέρειες, σύνθεση και Υφ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ικροσκοπία πολωμένου Φωτό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ορφολογία, ιδιότητες στο Φώ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ικροφωτογραφί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ορφολογία, λεπτομέρειες, σύνθεση και Υφ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ειδικός φωτισμός</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φωτογράφηση με υπέρυθρη</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ακτινοβολί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ζωγραφικές και χρωματικές επιστρώσεις, χρωστικέ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47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φωτογράφηση με</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υπεριώδη ακτινοβολί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φθορισμός, κηλίδες, στίλβωμα, Προηγούμενες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επισκευές και Προηγούμενες Αποκαταστάσει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ραδιογραφία με ακτίνες Χ</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και γ</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πυκνότητες στη σύσταση, εσωτερικές λεπτομέρειε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απεικόνιση με</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υπολογιστή</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υπολογιστική τομογραφί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εσωτερική και εξωτερική απεικόνιση του αντικειμένου</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σε 2 και 3 διαστάσει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υπολογιστική τομογραφία</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ε στερεολιθική συσκευή</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και βιομοντελοποίησ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απεικόνιση- αναπαράσταση σε 3 διαστάσεις για την</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παρασκευή μουσειακού αντικειμένο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32000" y="6137280"/>
            <a:ext cx="6400800" cy="7207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Πηγή: Λυριτζής Ι., 2007, </a:t>
            </a:r>
            <a:r>
              <a:rPr b="0" i="1" lang="en-US" sz="1600" spc="-1" strike="noStrike">
                <a:solidFill>
                  <a:srgbClr val="000000"/>
                </a:solidFill>
                <a:latin typeface="Arial"/>
              </a:rPr>
              <a:t>Φυσικές Επιστήμες στην Αρχαιολογία, </a:t>
            </a:r>
            <a:r>
              <a:rPr b="0" lang="en-US" sz="1600" spc="-1" strike="noStrike">
                <a:solidFill>
                  <a:srgbClr val="000000"/>
                </a:solidFill>
                <a:latin typeface="Arial"/>
              </a:rPr>
              <a:t>Εκδόσεις Δάρδανος Τυπωθήτω, Αθήνα, σ.σ. 135</a:t>
            </a:r>
            <a:endParaRPr b="0" lang="en-US" sz="1600" spc="-1" strike="noStrike">
              <a:solidFill>
                <a:srgbClr val="000000"/>
              </a:solidFill>
              <a:latin typeface="Arial"/>
            </a:endParaRPr>
          </a:p>
        </p:txBody>
      </p:sp>
      <p:pic>
        <p:nvPicPr>
          <p:cNvPr id="52" name="" descr=""/>
          <p:cNvPicPr/>
          <p:nvPr/>
        </p:nvPicPr>
        <p:blipFill>
          <a:blip r:embed="rId2">
            <a:lum bright="12000"/>
          </a:blip>
          <a:stretch/>
        </p:blipFill>
        <p:spPr>
          <a:xfrm>
            <a:off x="0" y="1484280"/>
            <a:ext cx="9144000" cy="3052800"/>
          </a:xfrm>
          <a:prstGeom prst="rect">
            <a:avLst/>
          </a:prstGeom>
          <a:ln w="0">
            <a:noFill/>
          </a:ln>
        </p:spPr>
      </p:pic>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ακριτά μήκη κύματος, αναγνωριστικά των συναποτελούντων χημικών στοιχεί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νταση φωτός που εκπέμπεται </a:t>
            </a:r>
            <a:r>
              <a:rPr b="0" lang="el-GR" sz="3200" spc="-1" strike="noStrike">
                <a:solidFill>
                  <a:srgbClr val="000000"/>
                </a:solidFill>
                <a:latin typeface="Wingdings"/>
                <a:ea typeface="Wingdings"/>
              </a:rPr>
              <a:t></a:t>
            </a:r>
            <a:r>
              <a:rPr b="0" lang="el-GR" sz="3200" spc="-1" strike="noStrike">
                <a:solidFill>
                  <a:srgbClr val="000000"/>
                </a:solidFill>
                <a:latin typeface="Arial"/>
              </a:rPr>
              <a:t> συγκέντρωση εκάστοτε στοιχείου, προτιμώμενη επιλογή όταν λ&lt; 0,2μ</a:t>
            </a:r>
            <a:r>
              <a:rPr b="0" lang="en-US" sz="3200" spc="-1" strike="noStrike">
                <a:solidFill>
                  <a:srgbClr val="000000"/>
                </a:solidFill>
                <a:latin typeface="Arial"/>
              </a:rPr>
              <a: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αθορισμός με πρίσμα ή περιθλασιόμετρ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ίχνευση με φωτογραφική πλάκα ή φωτοπολλαπλασιαστή.</a:t>
            </a:r>
            <a:endParaRPr b="0" lang="en-US" sz="3200" spc="-1" strike="noStrike">
              <a:solidFill>
                <a:srgbClr val="000000"/>
              </a:solidFill>
              <a:latin typeface="Arial"/>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ναλλακτικά ΦΟΕ με </a:t>
            </a:r>
            <a:r>
              <a:rPr b="0" lang="en-US" sz="2800" spc="-1" strike="noStrike">
                <a:solidFill>
                  <a:srgbClr val="000000"/>
                </a:solidFill>
                <a:latin typeface="Arial"/>
              </a:rPr>
              <a:t>laser</a:t>
            </a:r>
            <a:r>
              <a:rPr b="0" lang="el-GR" sz="2800" spc="-1" strike="noStrike">
                <a:solidFill>
                  <a:srgbClr val="000000"/>
                </a:solidFill>
                <a:latin typeface="Arial"/>
              </a:rPr>
              <a:t>, όπου το δείγμα δεν καταστρέφεται για δειγματοληψί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όσπτωση ακτίνας στην επιφάνεια του αντικειμένου, πρόκληση εξάχνωσης μικρογραμμαρίων του υλικο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κκένωση σπινθήρα στον ατμό εξάχνωση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ντομη μέθοδο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επαναληπτικότητά της μη ικανοποιητική, για ποιοτικούς ή ποσοτικούς προσδιορισμού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Φασματοσκοπία ατομικής απορρόφησης </a:t>
            </a:r>
            <a:br>
              <a:rPr sz="4000"/>
            </a:br>
            <a:r>
              <a:rPr b="0" lang="en-US" sz="4000" spc="-1" strike="noStrike">
                <a:solidFill>
                  <a:srgbClr val="000000"/>
                </a:solidFill>
                <a:latin typeface="Arial"/>
              </a:rPr>
              <a:t>ΦΑΑ</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ονολογεί κεραμική, μέταλλα, σκωρίες πυριτόλιθο κ.α.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ήση ορατού φωτός συγκεκριμένου λ πλησίον του υπεριώδους, αλλά με διακριτό λ που αντιστοιχεί στο χαρακτηριστικό λ εκπομπής του κάθε χημικού στοιχείο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ειγματοληψία</a:t>
            </a:r>
            <a:r>
              <a:rPr b="0" lang="el-GR" sz="2800" spc="-1" strike="noStrike">
                <a:solidFill>
                  <a:srgbClr val="000000"/>
                </a:solidFill>
                <a:latin typeface="Wingdings"/>
                <a:ea typeface="Wingdings"/>
              </a:rPr>
              <a:t></a:t>
            </a:r>
            <a:r>
              <a:rPr b="0" lang="el-GR" sz="2800" spc="-1" strike="noStrike">
                <a:solidFill>
                  <a:srgbClr val="000000"/>
                </a:solidFill>
                <a:latin typeface="Arial"/>
              </a:rPr>
              <a:t> δείγμα 1</a:t>
            </a:r>
            <a:r>
              <a:rPr b="0" lang="en-US" sz="2800" spc="-1" strike="noStrike">
                <a:solidFill>
                  <a:srgbClr val="000000"/>
                </a:solidFill>
                <a:latin typeface="Arial"/>
              </a:rPr>
              <a:t>0mg- 1g</a:t>
            </a:r>
            <a:r>
              <a:rPr b="0" lang="el-GR" sz="2800" spc="-1" strike="noStrike">
                <a:solidFill>
                  <a:srgbClr val="000000"/>
                </a:solidFill>
                <a:latin typeface="Arial"/>
              </a:rPr>
              <a:t> σε διάλυμα με ισχυρά οξέ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φάλμα </a:t>
            </a:r>
            <a:r>
              <a:rPr b="0" lang="en-US" sz="2800" spc="-1" strike="noStrike">
                <a:solidFill>
                  <a:srgbClr val="000000"/>
                </a:solidFill>
                <a:latin typeface="Arial"/>
              </a:rPr>
              <a:t>±</a:t>
            </a:r>
            <a:r>
              <a:rPr b="0" lang="el-GR" sz="2800" spc="-1" strike="noStrike">
                <a:solidFill>
                  <a:srgbClr val="000000"/>
                </a:solidFill>
                <a:latin typeface="Arial"/>
              </a:rPr>
              <a:t>2%</a:t>
            </a:r>
            <a:endParaRPr b="0" lang="en-US" sz="2800" spc="-1" strike="noStrike">
              <a:solidFill>
                <a:srgbClr val="000000"/>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68360" y="6093000"/>
            <a:ext cx="8229600" cy="50472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Πηγή: Λυριτζής Ι., 2007, </a:t>
            </a:r>
            <a:r>
              <a:rPr b="0" i="1" lang="en-US" sz="1600" spc="-1" strike="noStrike">
                <a:solidFill>
                  <a:srgbClr val="000000"/>
                </a:solidFill>
                <a:latin typeface="Arial"/>
              </a:rPr>
              <a:t>Φυσικές Επιστήμες στην Αρχαιολογία, </a:t>
            </a:r>
            <a:r>
              <a:rPr b="0" lang="en-US" sz="1600" spc="-1" strike="noStrike">
                <a:solidFill>
                  <a:srgbClr val="000000"/>
                </a:solidFill>
                <a:latin typeface="Arial"/>
              </a:rPr>
              <a:t>Εκδόσεις Δάρδανος Τυπωθήτω, Αθήνα, σ.σ. 141</a:t>
            </a:r>
            <a:endParaRPr b="0" lang="en-US" sz="1600" spc="-1" strike="noStrike">
              <a:solidFill>
                <a:srgbClr val="000000"/>
              </a:solidFill>
              <a:latin typeface="Arial"/>
            </a:endParaRPr>
          </a:p>
        </p:txBody>
      </p:sp>
      <p:pic>
        <p:nvPicPr>
          <p:cNvPr id="58" name="" descr=""/>
          <p:cNvPicPr/>
          <p:nvPr/>
        </p:nvPicPr>
        <p:blipFill>
          <a:blip r:embed="rId2">
            <a:lum bright="12000"/>
          </a:blip>
          <a:stretch/>
        </p:blipFill>
        <p:spPr>
          <a:xfrm>
            <a:off x="0" y="1413000"/>
            <a:ext cx="9144000" cy="3054240"/>
          </a:xfrm>
          <a:prstGeom prst="rect">
            <a:avLst/>
          </a:prstGeom>
          <a:ln w="0">
            <a:noFill/>
          </a:ln>
        </p:spPr>
      </p:pic>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τρηση έντασης μονοχρωματικού φωτός</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γκριση αρχικής έντασης δέσμης φωτός με την ένταση της ακτίνας που τελικά διέρχεται από το εκνέφωμα</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τρηση με όρους απορρόφησης Α</a:t>
            </a:r>
            <a:endParaRPr b="0" lang="en-US" sz="2800" spc="-1" strike="noStrike">
              <a:solidFill>
                <a:srgbClr val="000000"/>
              </a:solidFill>
              <a:latin typeface="Arial"/>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a:t>
            </a:r>
            <a:r>
              <a:rPr b="0" lang="en-US" sz="2800" spc="-1" strike="noStrike">
                <a:solidFill>
                  <a:srgbClr val="000000"/>
                </a:solidFill>
                <a:latin typeface="Arial"/>
              </a:rPr>
              <a:t> log </a:t>
            </a:r>
            <a:r>
              <a:rPr b="0" lang="el-GR" sz="2800" spc="-1" strike="noStrike">
                <a:solidFill>
                  <a:srgbClr val="000000"/>
                </a:solidFill>
                <a:latin typeface="Arial"/>
              </a:rPr>
              <a:t>Ι</a:t>
            </a:r>
            <a:r>
              <a:rPr b="0" lang="el-GR" sz="2800" spc="-1" strike="noStrike" baseline="-25000">
                <a:solidFill>
                  <a:srgbClr val="000000"/>
                </a:solidFill>
                <a:latin typeface="Arial"/>
              </a:rPr>
              <a:t>ο</a:t>
            </a:r>
            <a:r>
              <a:rPr b="0" lang="el-GR" sz="2800" spc="-1" strike="noStrike">
                <a:solidFill>
                  <a:srgbClr val="000000"/>
                </a:solidFill>
                <a:latin typeface="Arial"/>
              </a:rPr>
              <a:t>/ Ι</a:t>
            </a:r>
            <a:r>
              <a:rPr b="0" lang="el-GR" sz="2800" spc="-1" strike="noStrike" baseline="-25000">
                <a:solidFill>
                  <a:srgbClr val="000000"/>
                </a:solidFill>
                <a:latin typeface="Arial"/>
              </a:rPr>
              <a:t>τ</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ίχνευση έντασης δέσμης φωτός με φωτοπολλαπλασιαστή, καταγραφή σε καταγραφικό ή οθόνη</a:t>
            </a:r>
            <a:endParaRPr b="0" lang="en-US" sz="2800" spc="-1" strike="noStrike">
              <a:solidFill>
                <a:srgbClr val="000000"/>
              </a:solidFill>
              <a:latin typeface="Arial"/>
            </a:endParaRPr>
          </a:p>
          <a:p>
            <a:pPr marL="33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ίδια διαδικασία για όλα τα χημικά στοιχεία του δείγματος</a:t>
            </a:r>
            <a:endParaRPr b="0" lang="en-US" sz="2800" spc="-1" strike="noStrike">
              <a:solidFill>
                <a:srgbClr val="000000"/>
              </a:solidFill>
              <a:latin typeface="Arial"/>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Φασματοσκοπία ακτίνων Χ φθορισμού</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ct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Φασματοσκοπία ακτίνων Χ φθορισμού </a:t>
            </a:r>
            <a:r>
              <a:rPr b="0" lang="en-US" sz="3200" spc="-1" strike="noStrike">
                <a:solidFill>
                  <a:srgbClr val="000000"/>
                </a:solidFill>
                <a:latin typeface="Wingdings"/>
                <a:ea typeface="Wingdings"/>
              </a:rPr>
              <a:t></a:t>
            </a:r>
            <a:r>
              <a:rPr b="0" lang="en-US" sz="3200" spc="-1" strike="noStrike">
                <a:solidFill>
                  <a:srgbClr val="000000"/>
                </a:solidFill>
                <a:latin typeface="Arial"/>
              </a:rPr>
              <a:t> ποιοτική και ποσοτική πληροφορία χημικών στοιχείων </a:t>
            </a:r>
            <a:endParaRPr b="0" lang="en-US" sz="3200" spc="-1" strike="noStrike">
              <a:solidFill>
                <a:srgbClr val="000000"/>
              </a:solidFill>
              <a:latin typeface="Arial"/>
            </a:endParaRPr>
          </a:p>
          <a:p>
            <a:pPr marL="609480" indent="-609480" algn="ct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εριθλασιομετρία ακτίνων Χ </a:t>
            </a:r>
            <a:r>
              <a:rPr b="0" lang="en-US" sz="3200" spc="-1" strike="noStrike">
                <a:solidFill>
                  <a:srgbClr val="000000"/>
                </a:solidFill>
                <a:latin typeface="Wingdings"/>
                <a:ea typeface="Wingdings"/>
              </a:rPr>
              <a:t></a:t>
            </a:r>
            <a:r>
              <a:rPr b="0" lang="en-US" sz="3200" spc="-1" strike="noStrike">
                <a:solidFill>
                  <a:srgbClr val="000000"/>
                </a:solidFill>
                <a:latin typeface="Arial"/>
              </a:rPr>
              <a:t> κρυσταλλογραφική δομή κρυστάλλων</a:t>
            </a:r>
            <a:endParaRPr b="0" lang="en-US" sz="3200" spc="-1" strike="noStrike">
              <a:solidFill>
                <a:srgbClr val="000000"/>
              </a:solidFill>
              <a:latin typeface="Arial"/>
            </a:endParaRPr>
          </a:p>
          <a:p>
            <a:pPr marL="609480" indent="-609480" algn="ct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Ραδιογραφία με ακτίνες Χ </a:t>
            </a:r>
            <a:r>
              <a:rPr b="0" lang="en-US" sz="3200" spc="-1" strike="noStrike">
                <a:solidFill>
                  <a:srgbClr val="000000"/>
                </a:solidFill>
                <a:latin typeface="Wingdings"/>
                <a:ea typeface="Wingdings"/>
              </a:rPr>
              <a:t></a:t>
            </a:r>
            <a:r>
              <a:rPr b="0" lang="en-US" sz="3200" spc="-1" strike="noStrike">
                <a:solidFill>
                  <a:srgbClr val="000000"/>
                </a:solidFill>
                <a:latin typeface="Arial"/>
              </a:rPr>
              <a:t> δομή ολόκληρου του αντικειμένου ως προς την ακτινογραφία</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ΜΗ ΚΑΤΑΣΤΡΟΦΙΚΕΣ ΜΕΘΟΔΟΙ ##</a:t>
            </a:r>
            <a:endParaRPr b="0" lang="en-US" sz="3200" spc="-1" strike="noStrike">
              <a:solidFill>
                <a:srgbClr val="000000"/>
              </a:solidFill>
              <a:latin typeface="Aria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07:02:29Z</dcterms:created>
  <dc:creator>Customer</dc:creator>
  <dc:description/>
  <dc:language>en-US</dc:language>
  <cp:lastModifiedBy> </cp:lastModifiedBy>
  <dcterms:modified xsi:type="dcterms:W3CDTF">2008-06-10T12:00:56Z</dcterms:modified>
  <cp:revision>6</cp:revision>
  <dc:subject/>
  <dc:title>Διαφάνεια 1</dc:title>
</cp:coreProperties>
</file>