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701F-BEE5-4501-A76D-DAAE357E511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hyperlink" Target="http://el.wikipedia.org/wiki/&#917;&#960;&#953;&#963;&#964;&#951;&#956;&#959;&#957;&#953;&#954;&#942;_&#956;&#941;&#952;&#959;&#948;&#959;&#962;"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a:t>
            </a:r>
            <a:r>
              <a:rPr b="0" lang="el-GR" sz="1200" spc="-1" strike="noStrike" u="sng">
                <a:solidFill>
                  <a:srgbClr val="ccccff"/>
                </a:solidFill>
                <a:uFillTx/>
                <a:latin typeface="Times New Roman"/>
                <a:hlinkClick r:id="rId5"/>
              </a:rPr>
              <a:t>επιστημονικής μεθόδου</a:t>
            </a:r>
            <a:r>
              <a:rPr b="0" lang="el-GR" sz="1200" spc="-1" strike="noStrike">
                <a:solidFill>
                  <a:srgbClr val="000000"/>
                </a:solidFill>
                <a:latin typeface="Times New Roman"/>
              </a:rPr>
              <a:t>.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F2A3F-69C4-4392-89DA-AFE02A4C6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FAD7B-0192-4D2D-92E5-049D30F4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87C61-41E8-4F52-A5C1-7A7CC1EE2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2FB5F-975B-45FA-80CE-50F623C93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F7EB-EEE0-49CB-A681-0DCAE0089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6A20-C5CC-4F1B-8957-4AB8B941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BDA4-8E5D-4867-A887-0020C13B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2481D-9E7E-48E8-9EA7-69D38E690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7C9D3-FD23-4CEE-9D8F-33F509F6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0432-1F4D-4665-8431-7132B1A3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AB20-ACF1-457D-8D12-402A7B85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F28B-21CE-4997-830E-27615E19A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6587-A333-4DF0-B939-6B7A996EC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η βελτίωση</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5-08T15:07:06Z</dcterms:modified>
  <cp:revision>1</cp:revision>
  <dc:subject/>
  <dc:title>ΑΡΧΑΙΟΛΟΓΙΑ ΚΑΙ ΘΕΤΙΚΕΣ ΕΠΙΣΤΗΜΕΣ</dc:title>
</cp:coreProperties>
</file>