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1877-E6D1-4E1A-8735-84308D357B0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2.fhw.gr/chronos/02/crete/gr/economy/index3.html" TargetMode="External"/><Relationship Id="rId2" Type="http://schemas.openxmlformats.org/officeDocument/2006/relationships/hyperlink" Target="http://www2.fhw.gr/chronos/02/crete/gr/economy/index3.html" TargetMode="External"/><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ρχαιομετρία και η αρχαιολογία ήρθαν πιο κοντά ήδη από το 1970, όταν πλέον το ενδιαφέρον μετατοπίζεται στον τρόπο ζωής των αρχαίων πολιτισμών. Πλέον ο αρχαιολόγος έχει σαν εργαλείο στα χέρια του τη γνώση της σύστασης και της χρήσης κάποιων αντικειμένων, επομένως μπορεί να εξαγάγει συμπεράσματα σημαντικά για τη ζωή των λαών αυτ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μελέτη από μορφολογική θεώρηση των αρχαιολογικών ευρημάτων συμβάλει ιδιαίτερα στην κατανόηση του τρόπου ζωής.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πηλός όταν εξάγεται από το κοίτασμα δεν είναι κατάλληλος για κεραμικ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να δουλευτεί ώστε να γίνει ομοιογενής μάζα και κάθε σβώλος υλικού διαφορετικής προέλευσης πρέπει να απομακρυνθεί. Κάτι τέτοιο γίνεται με νερό σε λεκάνη, τα βαριά υλικά κατακάθονται, το νερό απομακρύνεται και μένει ο καθαρός πηλός. Η τελική προετοιμασία γίνεται με το χέρι, όπου πιθανοί σβώλοι λιώνονται με το χέρι του κεραμέ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ουν πηλοί οι οποίοι είναι ιδιαίτερα πλαστικοί. Τότε σ’ αυτούς τους πηλούς προστίθενται κάποια άλλα συστατικά, τα οποία ονομάζονται φίλερς. Φίλερς μπορεί να είναι άμμος ή πυρόλιθ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μειξη με ορυκτά υλικά που χρησιμεύουν για το ζύμωμα του πηλού λέγεται σ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ολουθεί το σχήμα. Ο κεραμέας δίνει το επιθυμητό σχήμα στον πηλό, ο οποίος αποκαλείται πλέον πήλινο αντικείμενο. Η πλαστικότητα χάνεται όταν πλέον το πήλινο αντικείμενο αφεθεί να στεγνώσει. Υπήρχαν κατά την αρχαιότητα πηλοί που το στέγνωμά τους ξεκινούσε από τις 2 μέρες και μπορούσε να φτάσει ως τις 12. τότε τα πήλινα αντικείμενα αλλάζουν χρώ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κεραμικά αντικείμενα- πήλινα αντικείμενα ψήνονταν σε ειδικά καμίνια μία ή δύο φορές, σε δυνατή φωτιά για 2 περίπου ημέρες. Ακολουθούσε η λεγόμενη εφυάλωση η οποία έδινε τη λάμψη και τη γυαλάδα στα κεραμικά. Η εφυάλωση ήταν συνήθως λευκή- διάφανη ή πράσινη.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a:t>
            </a:r>
            <a:r>
              <a:rPr b="0" lang="el-GR" sz="1200" spc="-1" strike="noStrike">
                <a:solidFill>
                  <a:srgbClr val="000000"/>
                </a:solidFill>
                <a:latin typeface="Wingdings"/>
                <a:ea typeface="Wingdings"/>
              </a:rPr>
              <a:t></a:t>
            </a:r>
            <a:r>
              <a:rPr b="0" lang="el-GR" sz="1200" spc="-1" strike="noStrike">
                <a:solidFill>
                  <a:srgbClr val="000000"/>
                </a:solidFill>
                <a:latin typeface="Arial"/>
              </a:rPr>
              <a:t> αν ο πηλός βρεθεί σε περιβάλλον αστρίου οι μόνες προσμείξεις που έχουν είναι εκείνες που προέρχονται από το μητρικό πέτρωμα αστριο και χαλαζία.τότε είναι πρωτογενείς. Οι δευτερογενείς πηλοί  είναι εκείνοι που έχουν μεταφερθεί από την τοποθεσία σχηματισμού τους. Πολύ συχνά αυτοί οι δευτερογενείς πηλοί έχουν εναποτεθεί στις όχθες ποταμών και λιμνών και λέγονται λιμνόβιοι πηλοί. Στους λιμνόβιους πηλούς είναι πολύ πιθανό να συναντήσουμε περισσότερα οξείδια του σιδήρου, ασβέστιο, μαγνήσιο και αλκάλια, που προσδίδουν περισσότερη πλαστικότητα στον πηλό και τον καθιστούν και πιο λεπτόκοκκ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a:t>
            </a:r>
            <a:r>
              <a:rPr b="0" lang="el-GR" sz="1200" spc="-1" strike="noStrike">
                <a:solidFill>
                  <a:srgbClr val="000000"/>
                </a:solidFill>
                <a:latin typeface="Wingdings"/>
                <a:ea typeface="Wingdings"/>
              </a:rPr>
              <a:t></a:t>
            </a:r>
            <a:r>
              <a:rPr b="0" lang="el-GR" sz="1200" spc="-1" strike="noStrike">
                <a:solidFill>
                  <a:srgbClr val="000000"/>
                </a:solidFill>
                <a:latin typeface="Arial"/>
              </a:rPr>
              <a:t> η πορσελάνη και ο καολίνης είναι οι πλέον καθαροί πηλοί, αλλά ακόμη κι έτσι σπάνια  περιέχουν λιγότερο από 5% άστρια ή άλλες προσμίξεις προερχόμενες από το μητρικό πέτρωμα. Λόγω της έλλειψης αυτής, σε άλλες προσμείξεις έχουν χρώμα λευκό ή υποκίτρινο και χωρίς πρόσθετα ρευστά έχουν υψηλό σημείο τήξης και σύντηξης. Γενικότερα λόγω μικρής εξαλλοίωσης από το περιβάλλον και τις συνθήκες είναι λιγότερο πλαστικοί. Οι σφαιρικοί πηλοί είναι δευτερογενείς πηλοί, οι οποίοι είναι ιδιαίτερα πλαστικοί και παρουσιάζουν μέχρι και 20% συρρίκνωση. Δεν έχουν σχετικά καθόλου σίδηρο και το χρώμα τους είναι άσπρο ή μπλε όταν είναι άψητοι υπόλευκοι, γκρι ή υποκίτρινοι όταν ψήνονται.  Έχουν επίσης υψηλά σημεία τήξης και σύντηξης. Οι κόκκινοι πηλοί είναι δευτερογενείς με οξείδια του σιδήρου. Έχουν σχετικά χαμηλό σημείο τήξης, θερμοκρασία ωρίμανσης περίπου στους 1000ο</a:t>
            </a:r>
            <a:r>
              <a:rPr b="0" lang="en-US" sz="1200" spc="-1" strike="noStrike">
                <a:solidFill>
                  <a:srgbClr val="000000"/>
                </a:solidFill>
                <a:latin typeface="Arial"/>
              </a:rPr>
              <a:t>C</a:t>
            </a:r>
            <a:r>
              <a:rPr b="0" lang="el-GR" sz="1200" spc="-1" strike="noStrike">
                <a:solidFill>
                  <a:srgbClr val="000000"/>
                </a:solidFill>
                <a:latin typeface="Arial"/>
              </a:rPr>
              <a:t> και όταν ψήνονται γίνονται κίτρινοι ή κόκκινοι. Είναι πολύ πλαστικοί. Οι μαργαικοί πηλοί είναι δευτερογενείς με σημαντική αναλογία άμμου, ασβεστίου και ρευστών. Δεν είναι πλαστικοί κι έχουν μεγάλο εύρος θερμοκρασιών ωρίμανσης που εξαρτάται από τη σύνθεσή τους. Οι αμμώδεις ή πυριτικοί πηλοί έχουμε μεγάλη ποσότητα προσμίξεων άμμου και συχνά οι αποθέσεις είναι τις μεσαίες όχθες των ποταμών. Είναι κατά κάποιο τρόπο μη πλαστικο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a:t>
            </a:r>
            <a:r>
              <a:rPr b="0" lang="el-GR" sz="1200" spc="-1" strike="noStrike">
                <a:solidFill>
                  <a:srgbClr val="000000"/>
                </a:solidFill>
                <a:latin typeface="Wingdings"/>
                <a:ea typeface="Wingdings"/>
              </a:rPr>
              <a:t></a:t>
            </a:r>
            <a:r>
              <a:rPr b="0" lang="el-GR" sz="1200" spc="-1" strike="noStrike">
                <a:solidFill>
                  <a:srgbClr val="000000"/>
                </a:solidFill>
                <a:latin typeface="Arial"/>
              </a:rPr>
              <a:t> οι πυρίμαχοι και οι άκαυστοι πηλοί εντοπίζονται κυρίως κάτω από άνθρακα και το κύριο χαρακτηριστικό τους είναι ότι αντέχουν σε πολύ υψηλές θερμοκρασίες της τάξεως των 1500ο</a:t>
            </a:r>
            <a:r>
              <a:rPr b="0" lang="en-US" sz="1200" spc="-1" strike="noStrike">
                <a:solidFill>
                  <a:srgbClr val="000000"/>
                </a:solidFill>
                <a:latin typeface="Arial"/>
              </a:rPr>
              <a:t>C</a:t>
            </a:r>
            <a:r>
              <a:rPr b="0" lang="el-GR" sz="1200" spc="-1" strike="noStrike">
                <a:solidFill>
                  <a:srgbClr val="000000"/>
                </a:solidFill>
                <a:latin typeface="Arial"/>
              </a:rPr>
              <a:t>, χωρίς να παραμορφώνονται. Οι πηλοί </a:t>
            </a:r>
            <a:r>
              <a:rPr b="0" lang="en-US" sz="1200" spc="-1" strike="noStrike">
                <a:solidFill>
                  <a:srgbClr val="000000"/>
                </a:solidFill>
                <a:latin typeface="Arial"/>
              </a:rPr>
              <a:t>stoneware</a:t>
            </a:r>
            <a:r>
              <a:rPr b="0" lang="el-GR" sz="1200" spc="-1" strike="noStrike">
                <a:solidFill>
                  <a:srgbClr val="000000"/>
                </a:solidFill>
                <a:latin typeface="Arial"/>
              </a:rPr>
              <a:t> είναι εκείνοι που ωριμάζουν μεταξύ 1200 και 1300ο</a:t>
            </a:r>
            <a:r>
              <a:rPr b="0" lang="en-US" sz="1200" spc="-1" strike="noStrike">
                <a:solidFill>
                  <a:srgbClr val="000000"/>
                </a:solidFill>
                <a:latin typeface="Arial"/>
              </a:rPr>
              <a:t>C</a:t>
            </a:r>
            <a:r>
              <a:rPr b="0" lang="el-GR" sz="1200" spc="-1" strike="noStrike">
                <a:solidFill>
                  <a:srgbClr val="000000"/>
                </a:solidFill>
                <a:latin typeface="Arial"/>
              </a:rPr>
              <a:t>. Είναι συνήθως μη πλαστικοί. Τέλος υπάρχουν κι εκείνοι που καίγονται στους 1000ο</a:t>
            </a:r>
            <a:r>
              <a:rPr b="0"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υσκολία ελέγχου της θερμοκρασίας στις αρχαίες καμίνους και η ανικανότητα προσέγγισης μιας υψηλής θερμοκρασίας είχε ως αποτέλεσμα να μην ψήνεται ο πηλός ως το σημείο ωρίμανσης. Τέτοια αντικείμενα ψημένα στους 1000ο</a:t>
            </a:r>
            <a:r>
              <a:rPr b="0" lang="en-US" sz="1200" spc="-1" strike="noStrike">
                <a:solidFill>
                  <a:srgbClr val="000000"/>
                </a:solidFill>
                <a:latin typeface="Arial"/>
              </a:rPr>
              <a:t>C</a:t>
            </a:r>
            <a:r>
              <a:rPr b="0" lang="el-GR" sz="1200" spc="-1" strike="noStrike">
                <a:solidFill>
                  <a:srgbClr val="000000"/>
                </a:solidFill>
                <a:latin typeface="Arial"/>
              </a:rPr>
              <a:t> αποτελούν αυτό που σήμερα λέμε ψημένη γή. τα ίδια σώματα ψημένα στους 1000-1200 ο</a:t>
            </a:r>
            <a:r>
              <a:rPr b="0" lang="en-US" sz="1200" spc="-1" strike="noStrike">
                <a:solidFill>
                  <a:srgbClr val="000000"/>
                </a:solidFill>
                <a:latin typeface="Arial"/>
              </a:rPr>
              <a:t>C</a:t>
            </a:r>
            <a:r>
              <a:rPr b="0" lang="el-GR" sz="1200" spc="-1" strike="noStrike">
                <a:solidFill>
                  <a:srgbClr val="000000"/>
                </a:solidFill>
                <a:latin typeface="Arial"/>
              </a:rPr>
              <a:t>, που είναι και η κοινή θερμοκρασία ωρίμανσης, αναφέρονται σαν γήινα αντικείμενα. Τα τούβλα και τα κεραμίδια αποτελούν σώματα από βαρύ πηλό και ψήνονται στη θερμοκρασία ωρίμανσης και τέλος να αναφερθεί ότι το δομικό υλικό των καμίνων είναι πυρίμαχος πηλό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ώματα από </a:t>
            </a:r>
            <a:r>
              <a:rPr b="0" lang="en-US" sz="1200" spc="-1" strike="noStrike">
                <a:solidFill>
                  <a:srgbClr val="000000"/>
                </a:solidFill>
                <a:latin typeface="Arial"/>
              </a:rPr>
              <a:t>stoneware</a:t>
            </a:r>
            <a:r>
              <a:rPr b="0" lang="el-GR" sz="1200" spc="-1" strike="noStrike">
                <a:solidFill>
                  <a:srgbClr val="000000"/>
                </a:solidFill>
                <a:latin typeface="Arial"/>
              </a:rPr>
              <a:t> συντήκονται μεταξύ 1200 και 1300ο</a:t>
            </a:r>
            <a:r>
              <a:rPr b="0" lang="en-US" sz="1200" spc="-1" strike="noStrike">
                <a:solidFill>
                  <a:srgbClr val="000000"/>
                </a:solidFill>
                <a:latin typeface="Arial"/>
              </a:rPr>
              <a:t>C</a:t>
            </a:r>
            <a:r>
              <a:rPr b="0" lang="el-GR" sz="1200" spc="-1" strike="noStrike">
                <a:solidFill>
                  <a:srgbClr val="000000"/>
                </a:solidFill>
                <a:latin typeface="Arial"/>
              </a:rPr>
              <a:t>. Μετά το ψήσιμο  έχουν χρώμα γκρι, μουντό κίτρινο ή καφετί και φτιάχνονται από ένα μίγμα αμμώδους πηλού και πορσελά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σώμα που όταν ψήνεται γίνεται λευκό μπορεί να λέγεται πορσελάνη. Οι πορσελάνες διακρίνονται σε μαλακές, σκληρές, υαλώδεις και πορσελάνες με οστό. οι μαλακές συντήκονται σε χαμηλή θερμοκρασία, οι σκληρές ψήνονται σε πολύ ψηλότερες θερμοκρασίες, οι υαλώδεις είναι πυκνές κι όχι διαφανείς και οι τελευταίες, με οστό λόγω του ότι έχουν ασβεστούχα κόκαλα βοδιού σαν ρευστό, είναι μια μαλακή μάζα, που όταν ψήνεται είναι πολύ άσπρη και διαφανής.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σχέδια με αποτύπωμα προσδίδουν χαρακτηριστικά στοιχεία ενός πολι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α εγχάρακτα και σκαλιστά, όταν ο πηλός είναι ακόμα πλαστικός είναι δυνατό να χαραχτούν σχέδια με καμπύλες, αλλά όταν το αγγείο έχει ξεραθεί πρακτικά μπορούν να χαραχθούν μόνο ευθείες γραμμές. Υπάρχει διαφορά στην εγχάρακτη και στη σκαλιστή διακόσμηση. Στην εγχάρακτη δεν αφαιρείται πηλός, ενώ στη σκαλιστή αφαιρεί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ν ανάγλυφη διακόσμηση σφαιρίδια ή λωρίδες πηλού κολλιούνται απευθείας στην υγρή επιφάνεια του κεραμικού και μπορούν να δουλευτούν όσο είναι ακόμα υγρά.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 διακόσμηση με βρεγμένα χέρια βελτιώνεται η όψη του αγγείου κι έρχονται στην επιφάνεια τα πιο λεπτά σωματίδια του πηλού, δίνοντας λεία όψη.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αλοίφωμα όλη η επιφάνεια του αγγείου καλύπτεται με ένα αραιό διάλυμα νερού με καολίνη, λευκού χρώματος, το οποίο μελλοντικά χρησιμοποιείται σαν βάση για την γραπτή διακόσμηση.</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ν από το λευκό πλέον σώμα του κεραμικού αφαιρεθεί κάποιο σχέδιο, φαίνεται το υποκείμενο χρώμα του πηλού, η τεχνική αυτή λέγεται </a:t>
            </a:r>
            <a:r>
              <a:rPr b="0" lang="en-US" sz="1000" spc="-1" strike="noStrike">
                <a:solidFill>
                  <a:srgbClr val="000000"/>
                </a:solidFill>
                <a:latin typeface="Arial"/>
              </a:rPr>
              <a:t>graffi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άλειψη της εξωτερικής επιφάνειας του κεραμικού με λεπτό στρώμα πηλού που περιέχει σημαντική ποσότητα ιλλίτη. Ο ιλλίτης έχει τη δυνατότητα να σχηματίζει κολλώδη διαλύματα πιο εύκολα από τα άλλα είδη αργίλων. Όταν το στρώμα αυτό του ιλλίτη ψηθεί σε οξειδωτική ατμόσφαιρα δημιουργεί ένα στρώμα σκούρου κόκκινου χρώματος. Αν ψηθεί σε αναγωγική ατμόσφαιρα, δημιουργεί το μαύρο του οξειδίου του σιδήρου (μαγνητίτης) και αποτελεί τη βάση για την διακόσμηση των μελανόμορφων αγγείω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εγκαυστική διακόσμηση τα σχέδια χαράσσονται στην επιφάνεια του υγρού κεραμικού και τα χαράγματα καλύπτονται από πηλό διαφορετικού χρώματο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διακόσμηση με ορυκτά ο κεραμέας μπορεί να αναμείξει στο εναιώρημα του πηλού κάποια ορυκτά, όπως αιματίτη και μαγνητίτη, για να επιφέρει κόκκινες ή μαύρες αποχρώσεις αντίστοιχ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τραχείες επιφανείς επιτυγχάνονται με το κόλλημα άχυρων ή λαχανικών στον μαλακό και υγρό πηλό, τα οποία όταν θα καούν θα δώσουν μια τραχεία επιφάνει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κάπνισμα, το κεραμικό εναποτίθεται σε φωτιά που καπνίζει για να γεμίσουν οι πόροι του πηλού με καπνιά. Κάτι τέτοιο διακρίνεται σε πρωτόγονα κεραμικά μαύρης τερακότας.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ίναι δύσκολο να γίνουν γενικεύσεις στη μορφή και τον τύπο των καμί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ς καύσιμα υλικά χρησιμοποιούνταν ξύλα, ποικιλίας μεγεθών και είδους, αλλά πολλές φορές χόρτα και ξεραμένη κοπριά.</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ηματοδοτούνται ολόκληρες αρχαιολογικές εποχές, Εποχή του Χαλκού, Εποχή του σιδήρ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a:t>
            </a:r>
            <a:r>
              <a:rPr b="0" lang="en-US" sz="1200" spc="-1" strike="noStrike">
                <a:solidFill>
                  <a:srgbClr val="000000"/>
                </a:solidFill>
                <a:latin typeface="Wingdings"/>
                <a:ea typeface="Wingdings"/>
              </a:rPr>
              <a:t></a:t>
            </a:r>
            <a:r>
              <a:rPr b="0" lang="en-US" sz="1200" spc="-1" strike="noStrike">
                <a:solidFill>
                  <a:srgbClr val="000000"/>
                </a:solidFill>
                <a:latin typeface="Arial"/>
              </a:rPr>
              <a:t> σύνθετο υλικό με βάση ένα πυρήνα συντηκόμενης χαλαζιακής κόνεος με επιφάνεια υαλώδ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 ονομάζεται μια σύνθετη ύλη που κατασκευάζεται από κονιορτοποιημένο χαλαζία, αμμόλιθο ή πυριτόλιθο και από ένα διάλυμα ανθρακικού νατρίου. Το υγρό μίγμα αυτών των υλικών τοποθετούνταν σε μήτρες και ψηνόταν σε υψηλή θερμοκρασία, περίπου στους 870</a:t>
            </a:r>
            <a:r>
              <a:rPr b="0" lang="en-US" sz="1200" spc="-1" strike="noStrike" baseline="30000">
                <a:solidFill>
                  <a:srgbClr val="000000"/>
                </a:solidFill>
                <a:latin typeface="Arial"/>
              </a:rPr>
              <a:t>o</a:t>
            </a:r>
            <a:r>
              <a:rPr b="0" lang="en-US" sz="1200" spc="-1" strike="noStrike">
                <a:solidFill>
                  <a:srgbClr val="000000"/>
                </a:solidFill>
                <a:latin typeface="Arial"/>
              </a:rPr>
              <a:t> C. Κατά την καύση το υλικό στερεοποιούνταν, ενώ το εξωτερικό επίχρισμα έλιωνε, δίνοντας στην επιφάνεια των αντικειμένων μια υπόλευκη, στιλπνή όψη που θύμιζε ελεφαντόδοντο. Για την απόκτηση του έντονου γαλάζιου χρώματος που χαρακτηρίζει την αιγυπτιακή φαγεντιανή, η επιφάνεια των αντικειμένων καλυπτόταν με ένα διάλυμα από οξείδιο του χαλκού και άμμο και ξαναφηνόταν. Η φαγεντιανή, λόγω των πρώτων υλών από τις οποίες κατασκευαζόταν, συγχέεται συχνά με την υαλόμαζα και το πραγματικό γυαλί, υλικά τα οποία ήταν επί</a:t>
            </a:r>
            <a:r>
              <a:rPr b="0" lang="en-US" sz="1200" spc="-1" strike="noStrike" u="sng">
                <a:solidFill>
                  <a:srgbClr val="009999"/>
                </a:solidFill>
                <a:uFillTx/>
                <a:latin typeface="Arial"/>
                <a:hlinkClick r:id="rId1"/>
              </a:rPr>
              <a:t> </a:t>
            </a:r>
            <a:r>
              <a:rPr b="0" lang="en-US" sz="1200" spc="-1" strike="noStrike" u="sng">
                <a:solidFill>
                  <a:srgbClr val="000000"/>
                </a:solidFill>
                <a:uFillTx/>
                <a:latin typeface="Arial"/>
              </a:rPr>
              <a:t>σης σε χρήση κατά την εποχή του Χαλκού. Αν και η τεχνική κατεργασίας της είναι περισσότερο γνωστή από την Αίγυπτο, όπου ήταν σε χρήση από την τέταρτη χιλιετία, η τέχνη αυτή φαίνεται ότι εισήχθη στην Κρήτη από τη Συρία και τη Μεσοποταμία.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 μινωική Κρήτη τα πρώτα δείγματα της τέχνης της φαγεντιανής εμφανίζονται λίγο πριν από το τέλος της Πρωτομινωικής εποχής (3000-2000 π.Χ.). Από φαγεντιανή κατασκευάζονταν χρηστικά αγγεία, τελετουργικά αντικείμενα και ανθρωπόμορφα ή ζωόμορφα ειδώλια. Σημαντική είναι επίσης η χρήση της στην κοσμηματοποιία και τη </a:t>
            </a:r>
            <a:r>
              <a:rPr b="0" lang="en-US" sz="1200" spc="-1" strike="noStrike" u="sng">
                <a:solidFill>
                  <a:srgbClr val="009999"/>
                </a:solidFill>
                <a:uFillTx/>
                <a:latin typeface="Arial"/>
                <a:hlinkClick r:id="rId2"/>
              </a:rPr>
              <a:t>σφραγιδογλυφία</a:t>
            </a:r>
            <a:r>
              <a:rPr b="0" lang="en-US" sz="1200" spc="-1" strike="noStrike" u="sng">
                <a:solidFill>
                  <a:srgbClr val="000000"/>
                </a:solidFill>
                <a:uFillTx/>
                <a:latin typeface="Arial"/>
              </a:rPr>
              <a:t>. Από φαγεντιανή κατασκευάζονταν ακόμη χάντρες, περίαπτα και ένα πλήθος από διακοσμητικά πλακίδια διαφόρων μεγεθών και σχημάτων, άγνωστης χρήσης. Χρησιμοποιούνταν επίσης συχνά και ως ένθετη διακοσμητική ύλη σε αντικείμενα από διαφορετικά υλικά.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εγάλη θεά των όφεων, από φαγεντιανή, 1600π.Χ, Κνωσός</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ργαλεία οψιανού, από τα Καλάβρυτα, ύστερη νεολιθική</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ώς διαμορφώνονται τα γυαλιά</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βαπτισμος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σχεδιάζεται ένας πυρήνας ο οποίος εμβαπτίζεται στο μέταλλο. Κατά την ψύξη ο πυρήνας αφαιρεί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έλιξη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ράβδοι γυαλιού ζεσταίνονται και περιελίσσονται γύρω από τον πυρήνα. Ο πυρήνας και η περιέλιξη επαναθερμαίνονται και ΄λειαίνον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ανώτερες μέθοδοι εξαρτώνται διαδικαστικά από τις μεθόδους της κεραμική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μφύσηση γυαλιού όμως όχ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γυαλί τοποθετείται στην άκρη ενός φυσητήρα και τοποθετείται σε ένα μεταλλικό καλούπι. Θερμαίνεται και φουσκώνει από το φυσητήρα και γεμίζει το καλούπι, το οποίο τελικά ανοίγει και βγαίνει το σκεύος, από το οποίο λειαίνονται τα κομμάτια του που προεξέχου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σον αφορά στη διακόσμ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ροχ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άραγμα με διαμαντένια ακ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o</a:t>
            </a:r>
            <a:r>
              <a:rPr b="0" lang="el-GR" sz="1200" spc="-1" strike="noStrike">
                <a:solidFill>
                  <a:srgbClr val="000000"/>
                </a:solidFill>
                <a:latin typeface="Wingdings"/>
                <a:ea typeface="Wingdings"/>
              </a:rPr>
              <a:t></a:t>
            </a:r>
            <a:r>
              <a:rPr b="0" lang="el-GR" sz="1200" spc="-1" strike="noStrike">
                <a:solidFill>
                  <a:srgbClr val="000000"/>
                </a:solidFill>
                <a:latin typeface="Arial"/>
              </a:rPr>
              <a:t> γυάλινο αγγείο κάποιο χρώματος εμφυσούνταν μέσα σε άλλο αγγείο συνήθως λευκού χρώματος και πυρακτώνονταν μαζί, για να δέσουν. Μετά το λευκό αγγείο σκαλίζεται για να αναδειχθεί το γυαλί στο υπόβαθρο της παρ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ωσαϊκό γυαλί</a:t>
            </a:r>
            <a:r>
              <a:rPr b="0" lang="el-GR" sz="1200" spc="-1" strike="noStrike">
                <a:solidFill>
                  <a:srgbClr val="000000"/>
                </a:solidFill>
                <a:latin typeface="Wingdings"/>
                <a:ea typeface="Wingdings"/>
              </a:rPr>
              <a:t></a:t>
            </a:r>
            <a:r>
              <a:rPr b="0" lang="el-GR" sz="1200" spc="-1" strike="noStrike">
                <a:solidFill>
                  <a:srgbClr val="000000"/>
                </a:solidFill>
                <a:latin typeface="Arial"/>
              </a:rPr>
              <a:t> μικρά κομμάτια πολύχρωμων γυαλιών τοποθετούνται πάνω σε πήλινο καλούπι, θερμαίνονται, συντήκονται όλα μαζ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υάλινα ν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θετα γυαλι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τίνες Χ φθορισμού χρησιμοποιούνται στο εργαστήριο του μουσείου Μπενάκη στην Αθήνα, για την ανάλυση των χρωστικών των αγιογραφιών. Πιστοποιείται το σύγχρονο των χρωστικών που χρησιμοποιήθηκαν σε μια εικόνα, για να επιβεβαιωθεί η γνησιότητά της. Συλλογή βελιμέζ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άλογ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A162F-B970-4443-B06E-E4D97A0FE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A8B5-7CF6-4841-805E-D3154715B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A2BB2-214E-4994-B6F2-834F6DB50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C42B-2535-43BE-B601-3EEF6748A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D55A-36C0-4C04-9059-34C4DC25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3484-7006-450C-8886-FEAA4177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98B3-9E90-4C22-AC38-EC09766A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ED6B-5A64-4A6D-8A79-7D5F5525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1543-33EE-473E-8CE7-AAA71003E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AE5E-56C3-4E79-BCA8-B7DF484F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F6F9-E002-4FD4-B0A8-0BD36B1E5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416A-02B4-47F1-AA43-1A4706D7D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7AB5-5EF0-4787-AA26-4E1689532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hyperlink" Target="http://photo.kathimerini.gr/kathnews/photos/30-11-03/30-11-03_1281020_91.jpg" TargetMode="External"/><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έχνεργα</a:t>
            </a:r>
            <a:br>
              <a:rPr sz="4400"/>
            </a:br>
            <a:r>
              <a:rPr b="0" lang="en-US" sz="4400" spc="-1" strike="noStrike">
                <a:solidFill>
                  <a:srgbClr val="000000"/>
                </a:solidFill>
                <a:latin typeface="Arial"/>
              </a:rPr>
              <a:t>Artifacts</a:t>
            </a: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έχνεργα</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ρωτήματα που ανακύπτουν για τα τέχνεργ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όνος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 υλικώ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εχνική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ήσ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φ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0" y="0"/>
          <a:ext cx="8937720" cy="7054920"/>
        </p:xfrm>
        <a:graphic>
          <a:graphicData uri="http://schemas.openxmlformats.org/drawingml/2006/table">
            <a:tbl>
              <a:tblPr/>
              <a:tblGrid>
                <a:gridCol w="1604880"/>
                <a:gridCol w="2340000"/>
                <a:gridCol w="2340000"/>
                <a:gridCol w="2652840"/>
              </a:tblGrid>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7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λίθιν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εραμ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88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φασματοσκοπία Mossbau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θερ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ογραφ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ειδική βαρύτητ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ισοτοπ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95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υάλινα (πορσελάνη, φαγεντιαν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ισοτοπ.ανάλ.</a:t>
                      </a:r>
                      <a:r>
                        <a:rPr b="0" lang="en-US" sz="1800" spc="-1" strike="noStrike">
                          <a:solidFill>
                            <a:srgbClr val="000000"/>
                          </a:solidFill>
                          <a:latin typeface="Arial"/>
                        </a:rPr>
                        <a:t> O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142920" y="304920"/>
          <a:ext cx="8856720" cy="63972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e18"/>
                    </a:solidFill>
                  </a:tcPr>
                </a:tc>
              </a:tr>
            </a:tbl>
          </a:graphicData>
        </a:graphic>
      </p:graphicFrame>
      <p:graphicFrame>
        <p:nvGraphicFramePr>
          <p:cNvPr id="65" name=""/>
          <p:cNvGraphicFramePr/>
          <p:nvPr/>
        </p:nvGraphicFramePr>
        <p:xfrm>
          <a:off x="142920" y="919080"/>
          <a:ext cx="8856720" cy="566748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ρωστικές ουσίε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ξύλινα, οστέινα, δέρμα, ίνες, όστρακο, κεχριμπάρ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πτική μικρ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ισοτοπ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 (συγκολλητικά βερνίκι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υπέρ. φασματ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ΛΙΘΙΝΑ</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υριτόλιθος</a:t>
            </a:r>
            <a:r>
              <a:rPr b="0" lang="en-US" sz="2800" spc="-1" strike="noStrike">
                <a:solidFill>
                  <a:srgbClr val="000000"/>
                </a:solidFill>
                <a:latin typeface="Wingdings"/>
                <a:ea typeface="Wingdings"/>
              </a:rPr>
              <a:t></a:t>
            </a:r>
            <a:r>
              <a:rPr b="0" lang="en-US" sz="2800" spc="-1" strike="noStrike">
                <a:solidFill>
                  <a:srgbClr val="000000"/>
                </a:solidFill>
                <a:latin typeface="Arial"/>
              </a:rPr>
              <a:t> αποτελείται από χαλαζία, αλουμινοπυριτούχα και βαρέα ορυκτά και είναι μη ασβεστούχα. Μετρήσεις σε πυριτόλιθους αναφέρονται σε αλουμίνιο, σίδηρο, θόριο, σκάντιο, αλλά και σε άλλα ιχνο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ψιανός </a:t>
            </a:r>
            <a:r>
              <a:rPr b="0" lang="en-US" sz="2800" spc="-1" strike="noStrike">
                <a:solidFill>
                  <a:srgbClr val="000000"/>
                </a:solidFill>
                <a:latin typeface="Wingdings"/>
                <a:ea typeface="Wingdings"/>
              </a:rPr>
              <a:t></a:t>
            </a:r>
            <a:r>
              <a:rPr b="0" lang="en-US" sz="2800" spc="-1" strike="noStrike">
                <a:solidFill>
                  <a:srgbClr val="000000"/>
                </a:solidFill>
                <a:latin typeface="Arial"/>
              </a:rPr>
              <a:t> έχει αναλυθεί σημαντικός αριθμός οψιανών και βρέθηκε η πηγή τους. Στην παλαιολιθική εποχή χρησιμοποιήθηκε στην κατασκευή λεπίδων και εργαλείων. </a:t>
            </a:r>
            <a:endParaRPr b="0" lang="en-US" sz="28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ΚΕΡΑΜΙΚΑ</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ναλύσεις προσδιορίζουν την πηγή του πηλού ή της πρώτης ύλης. Απαιτείται ο προσδιορισμός των ιχνοστοιχείων και των ελάχιστων στοιχείων. Αρκετές φορές απαιτείται η ορυκτολογική ανάλυση, η μελέτη μικρών τομών σε μικροσκόπιο. </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α κεραμικά προσδιορίζονται:</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όπω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σβέσ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κά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ίδηρο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άτρ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νήσ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ώμ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ικέ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λουμί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τάνιο</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Ιχνοστοιχεία όπω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οβάλ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υρώπ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όρ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Χαφ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καν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αντάλ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ίσ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υρά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υσπρόσιο κ.α.</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ηλός</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οίτασ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κάψιμ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ροετοίμαστ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προετοιμασί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ώ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χηματισμ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ίλερ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ηματισμέν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στέγν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κληρό σχήμα </a:t>
            </a:r>
            <a:r>
              <a:rPr b="0" lang="en-US" sz="3200" spc="-1" strike="noStrike">
                <a:solidFill>
                  <a:srgbClr val="000000"/>
                </a:solidFill>
                <a:latin typeface="Wingdings"/>
                <a:ea typeface="Wingdings"/>
              </a:rPr>
              <a:t></a:t>
            </a:r>
            <a:r>
              <a:rPr b="0" lang="en-US" sz="3200" spc="-1" strike="noStrike">
                <a:solidFill>
                  <a:srgbClr val="000000"/>
                </a:solidFill>
                <a:latin typeface="Arial"/>
              </a:rPr>
              <a:t> ψήσιμο </a:t>
            </a:r>
            <a:r>
              <a:rPr b="0" lang="en-US" sz="3200" spc="-1" strike="noStrike">
                <a:solidFill>
                  <a:srgbClr val="000000"/>
                </a:solidFill>
                <a:latin typeface="Wingdings"/>
                <a:ea typeface="Wingdings"/>
              </a:rPr>
              <a:t></a:t>
            </a:r>
            <a:r>
              <a:rPr b="0" lang="en-US" sz="3200" spc="-1" strike="noStrike">
                <a:solidFill>
                  <a:srgbClr val="000000"/>
                </a:solidFill>
                <a:latin typeface="Arial"/>
              </a:rPr>
              <a:t> ψημένο σχή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57200"/>
            <a:ext cx="82296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ύριο συστατικό του πηλού είναι ο καολίνης.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 </a:t>
            </a:r>
            <a:r>
              <a:rPr b="0" lang="en-US" sz="2800" spc="-1" strike="noStrike">
                <a:solidFill>
                  <a:srgbClr val="000000"/>
                </a:solidFill>
                <a:latin typeface="Arial"/>
              </a:rPr>
              <a:t> 2SiO</a:t>
            </a:r>
            <a:r>
              <a:rPr b="0" lang="en-US" sz="2800" spc="-1" strike="noStrike" baseline="-25000">
                <a:solidFill>
                  <a:srgbClr val="000000"/>
                </a:solidFill>
                <a:latin typeface="Arial"/>
              </a:rPr>
              <a:t>2</a:t>
            </a:r>
            <a:r>
              <a:rPr b="0" lang="en-US" sz="2800" spc="-1" strike="noStrike">
                <a:solidFill>
                  <a:srgbClr val="000000"/>
                </a:solidFill>
                <a:latin typeface="Arial"/>
              </a:rPr>
              <a:t>  2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έρχεται από τη φυσική και χημική κατάρρευση των ορυκτών αστριού, όταν τα οξείδια καλίου και νατρίου προσβάλλονται και γίνονται διαλυτά από οξέα που βρίσκονται μέσα στο έδαφος. Γι αυτό το λόγο ο καολίνης δε βρίσκεται ποτέ στη φύση σε καθαρή κατάστα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ίται από πλακοειδείς κρυστάλλους που διαχωρίζονται από ένα λεπτό στρώμα νερού το οποίο προσδίδει και την πλαστικότητα στον πηλ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υπάρχον νερό προσδίδει και τη συρρίκνωση κατά το στέγνωμα.</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τά τη διάρκεια του ψησίματος</a:t>
            </a:r>
            <a:endParaRPr b="0" lang="en-US" sz="4400" spc="-1" strike="noStrike">
              <a:solidFill>
                <a:srgbClr val="000000"/>
              </a:solidFill>
              <a:latin typeface="Arial"/>
            </a:endParaRPr>
          </a:p>
        </p:txBody>
      </p:sp>
      <p:sp>
        <p:nvSpPr>
          <p:cNvPr id="77" name="PlaceHolder 2"/>
          <p:cNvSpPr>
            <a:spLocks noGrp="1"/>
          </p:cNvSpPr>
          <p:nvPr>
            <p:ph/>
          </p:nvPr>
        </p:nvSpPr>
        <p:spPr>
          <a:xfrm>
            <a:off x="0" y="1197000"/>
            <a:ext cx="91440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που προστίθενται στον πηλό μπορεί να του προσδώσουν κάποιες ιδιότητες κατά το ψήσιμο. Υπάρχει ένα σημείο θερμότητας κατά την οποία η εξωτερική επιφάνεια του πηλού λιώνει και σταθεροποιείται κατά την ψύξη. Σε περιπτώσεις που ξεπεραστεί το σημείο αυτό, τα μικροσωματίδια λιώνουν εντελώς και ενώνονται, με αποτέλεσμα το υλικό να υαλοποιείτα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 ξεπεραστεί η θερμοκρασία τήξης του πηλού, η οποία είναι 1770</a:t>
            </a:r>
            <a:r>
              <a:rPr b="0" lang="el-GR" sz="2800" spc="-1" strike="noStrike" baseline="30000">
                <a:solidFill>
                  <a:srgbClr val="000000"/>
                </a:solidFill>
                <a:latin typeface="Arial"/>
              </a:rPr>
              <a:t>ο</a:t>
            </a:r>
            <a:r>
              <a:rPr b="0" lang="en-US" sz="2800" spc="-1" strike="noStrike">
                <a:solidFill>
                  <a:srgbClr val="000000"/>
                </a:solidFill>
                <a:latin typeface="Arial"/>
              </a:rPr>
              <a:t>C </a:t>
            </a:r>
            <a:r>
              <a:rPr b="0" lang="el-GR" sz="2800" spc="-1" strike="noStrike">
                <a:solidFill>
                  <a:srgbClr val="000000"/>
                </a:solidFill>
                <a:latin typeface="Arial"/>
              </a:rPr>
              <a:t>περίπου, όπου το κεραμικό είναι σωστά δομημένο και στέρεο, τότε υπάρχει κίνδυνος καταστροφής του σχήματος του αντικειμένου.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εραμείς θεωρούν τη σωστή θερμοκρασία κατά την οποία ο πηλός μπορεί να ψηθεί χωρίς να αλλοιωθεί το σχήμα του αντικειμένου, ως σημείο ωρίμανσης.</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Ταξινόμηση πηλών</a:t>
            </a:r>
            <a:endParaRPr b="0" lang="en-US" sz="4000" spc="-1" strike="noStrike">
              <a:solidFill>
                <a:srgbClr val="000000"/>
              </a:solidFill>
              <a:latin typeface="Arial"/>
            </a:endParaRPr>
          </a:p>
        </p:txBody>
      </p:sp>
      <p:sp>
        <p:nvSpPr>
          <p:cNvPr id="79"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ον τρόπο  με τον οποίο σχηματίστηκα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ωτ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υτερ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ιμνόβιοι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φύση των προσμίξεω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η και καολίνης</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αιρι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όκκιν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ργαϊ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μμώδεις ή πυριτικοί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συμπεριφορά τους στο ψήσιμο.</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μαχ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Άκαυστ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neware </a:t>
            </a:r>
            <a:r>
              <a:rPr b="0" lang="el-GR" sz="2400" spc="-1" strike="noStrike">
                <a:solidFill>
                  <a:srgbClr val="000000"/>
                </a:solidFill>
                <a:latin typeface="Arial"/>
              </a:rPr>
              <a:t>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ηλοί που καίγονται.</a:t>
            </a:r>
            <a:endParaRPr b="0" lang="en-US" sz="24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έχνεργα κατασκευασμένα αντικείμενα από πρώτη υλη από τον άνθρωπο, είτε αυτά είναι εργαλεία είτε αντικείμενα καθημερινής χρήσης. Μπορεί να είναι κεραμικά, μεταλλικά, οστέινα, λίθινα κλπ.</a:t>
            </a:r>
            <a:endParaRPr b="0" lang="en-US" sz="3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ώματα</a:t>
            </a:r>
            <a:endParaRPr b="0" lang="en-US" sz="4000" spc="-1" strike="noStrike">
              <a:solidFill>
                <a:srgbClr val="000000"/>
              </a:solidFill>
              <a:latin typeface="Arial"/>
            </a:endParaRPr>
          </a:p>
        </p:txBody>
      </p:sp>
      <p:sp>
        <p:nvSpPr>
          <p:cNvPr id="8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να παραχθεί ένα πορώδες ή διαπερατό κεραμικό</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Ψημένη γη</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ήινα αντικείμενα</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βαρύ πηλό</a:t>
            </a:r>
            <a:endParaRPr b="0" lang="en-US" sz="2400" spc="-1" strike="noStrike">
              <a:solidFill>
                <a:srgbClr val="000000"/>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την παραγωγή αδιαπέραστου υλικού. </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a:t>
            </a:r>
            <a:r>
              <a:rPr b="0" lang="en-US" sz="2400" spc="-1" strike="noStrike">
                <a:solidFill>
                  <a:srgbClr val="000000"/>
                </a:solidFill>
                <a:latin typeface="Arial"/>
              </a:rPr>
              <a:t>stoneware</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ες</a:t>
            </a:r>
            <a:endParaRPr b="0" lang="en-US" sz="24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λακέ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κληρές </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αλώδει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οστό</a:t>
            </a:r>
            <a:endParaRPr b="0" lang="en-US" sz="20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καλούνται συλλιπάσ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ίναι τα υλικά που δεν γίνονται πλαστικά μέσα στο νερό και που αντέχουν θερμοκρασίες ψησίματος κεραμικών, χωρίς να υποστεί σημαντικές μεταβολέ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αρχαίοι κεραμείς χρησιμοποιούσαν χαλαζιακή άμμο και ασβεστώδη πυρόλιθο, αν και οποιοδήποτε κονιορτοποιημένο πέτρωμα θα μπορούσε να χρησιμοποιηθεί.</a:t>
            </a:r>
            <a:endParaRPr b="0" lang="en-US" sz="2800" spc="-1" strike="noStrike">
              <a:solidFill>
                <a:srgbClr val="000000"/>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λαστική διακόσμηση</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έδια με αποτύπ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γχάρακτα και σκαλιστά σχέδ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γλυφη διακόσμηση</a:t>
            </a:r>
            <a:endParaRPr b="0" lang="en-US" sz="32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φανειακή διακόσμηση</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βρεγμένα χέρι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λοίφωμ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υάλωσ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γκαυστικ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ορυκτά</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ραχείες επιφάνειε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άπνισμα </a:t>
            </a:r>
            <a:endParaRPr b="0" lang="en-US" sz="3200" spc="-1" strike="noStrike">
              <a:solidFill>
                <a:srgbClr val="000000"/>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530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ή: http://tovima.dolnet.gr/data/D2002/D0818/1abc10c.gif</a:t>
            </a:r>
            <a:endParaRPr b="0" lang="en-US" sz="2000" spc="-1" strike="noStrike">
              <a:solidFill>
                <a:srgbClr val="000000"/>
              </a:solidFill>
              <a:latin typeface="Arial"/>
            </a:endParaRPr>
          </a:p>
        </p:txBody>
      </p:sp>
      <p:pic>
        <p:nvPicPr>
          <p:cNvPr id="89" name="" descr=""/>
          <p:cNvPicPr/>
          <p:nvPr/>
        </p:nvPicPr>
        <p:blipFill>
          <a:blip r:embed="rId2"/>
          <a:stretch/>
        </p:blipFill>
        <p:spPr>
          <a:xfrm>
            <a:off x="1476360" y="0"/>
            <a:ext cx="5759640" cy="5710320"/>
          </a:xfrm>
          <a:prstGeom prst="rect">
            <a:avLst/>
          </a:prstGeom>
          <a:ln w="0">
            <a:noFill/>
          </a:ln>
        </p:spPr>
      </p:pic>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έγνωμ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αραίτητο το στέγνωμα πριν το κεραμικό ψηθεί, για να μη δημιουργηθεί ατμός στα τοιχώματα του κεραμικού την ώρα του ψησίματος και σπάσει. </a:t>
            </a:r>
            <a:endParaRPr b="0" lang="en-US" sz="3200" spc="-1" strike="noStrike">
              <a:solidFill>
                <a:srgbClr val="000000"/>
              </a:solidFill>
              <a:latin typeface="Arial"/>
            </a:endParaRP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μίνια ή κάμινοι</a:t>
            </a:r>
            <a:endParaRPr b="0" lang="en-US" sz="44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γάλη ποικιλία το χώρο και το χρόνο.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ην κατασκευή του καμινιού λαμβανόταν υπόψη πάντα το καύσιμο υλικό που θα χρησιμοποιηθεί</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ικιακές εστίε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αίθριες φωτιέ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ολωτά καμίνια με εξαερισμό από πάν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σε κοιλώματα</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με εξαερισμό από κάτ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Μουφλοκάμινος </a:t>
            </a:r>
            <a:endParaRPr b="0" lang="en-US" sz="2400" spc="-1" strike="noStrike">
              <a:solidFill>
                <a:srgbClr val="000000"/>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092640"/>
            <a:ext cx="822960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ηγή: Λυριτζής Ι., 2007, </a:t>
            </a:r>
            <a:r>
              <a:rPr b="0" i="1" lang="el-GR" sz="1600" spc="-1" strike="noStrike">
                <a:solidFill>
                  <a:srgbClr val="000000"/>
                </a:solidFill>
                <a:latin typeface="Arial"/>
              </a:rPr>
              <a:t>Φυσικές Επιστήμες στην Αρχαιολογία, </a:t>
            </a:r>
            <a:r>
              <a:rPr b="0" lang="el-GR" sz="1600" spc="-1" strike="noStrike">
                <a:solidFill>
                  <a:srgbClr val="000000"/>
                </a:solidFill>
                <a:latin typeface="Arial"/>
              </a:rPr>
              <a:t>Εκδόσεις Δάρδανος Τυπωθείτω, Αθήνα, σ.σ. </a:t>
            </a:r>
            <a:r>
              <a:rPr b="0" lang="en-US" sz="1600" spc="-1" strike="noStrike">
                <a:solidFill>
                  <a:srgbClr val="000000"/>
                </a:solidFill>
                <a:latin typeface="Arial"/>
              </a:rPr>
              <a:t>121</a:t>
            </a:r>
            <a:endParaRPr b="0" lang="en-US" sz="1600" spc="-1" strike="noStrike">
              <a:solidFill>
                <a:srgbClr val="000000"/>
              </a:solidFill>
              <a:latin typeface="Arial"/>
            </a:endParaRPr>
          </a:p>
        </p:txBody>
      </p:sp>
      <p:pic>
        <p:nvPicPr>
          <p:cNvPr id="95" name="" descr=""/>
          <p:cNvPicPr/>
          <p:nvPr/>
        </p:nvPicPr>
        <p:blipFill>
          <a:blip r:embed="rId2"/>
          <a:stretch/>
        </p:blipFill>
        <p:spPr>
          <a:xfrm>
            <a:off x="2050920" y="0"/>
            <a:ext cx="4953240" cy="6081840"/>
          </a:xfrm>
          <a:prstGeom prst="rect">
            <a:avLst/>
          </a:prstGeom>
          <a:ln w="0">
            <a:noFill/>
          </a:ln>
        </p:spPr>
      </p:pic>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ψησίματος</a:t>
            </a:r>
            <a:endParaRPr b="0" lang="en-US" sz="4400" spc="-1" strike="noStrike">
              <a:solidFill>
                <a:srgbClr val="000000"/>
              </a:solidFill>
              <a:latin typeface="Arial"/>
            </a:endParaRPr>
          </a:p>
        </p:txBody>
      </p:sp>
      <p:sp>
        <p:nvSpPr>
          <p:cNvPr id="97"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χικά χαμηλή θερμοκρασία για ολοκληρωτικό στέγνωμα του νερού του πηλ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ή αύξηση της θερμοκρασίας. Αν πάνω από τους 400</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ανέβει απότομα η θερμοκρασία, το ενυπάρχον στη σύσταση του καολίνη νερό θα εξατμιστεί και το αντικείμενο θα σπάσε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υς 573</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η δομή του χαλαζία αλλάζει και διαστέλλεται κατά 2%. Ενυπάρχει κι εδώ κίνδυνος θραύ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ό κι αργό ανέβασμα της θερμοκρασίας του καμινιού μέχρι το σημείο ωρίμανσης. </a:t>
            </a:r>
            <a:endParaRPr b="0" lang="en-US" sz="2800" spc="-1" strike="noStrike">
              <a:solidFill>
                <a:srgbClr val="000000"/>
              </a:solidFill>
              <a:latin typeface="Arial"/>
            </a:endParaRPr>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θερμοκρασία ωρίμανσης εξαρτάται από</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είδος του πηλού και τις προσμίξεις τ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ό τη λεπτότητα των κόκκων του πηλού, όπου οι λεπτόκοκκοι πηλοί ωριμάζουν σε χαμηλότερες θερμοκρασίε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ειγματοληψία</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ική διαδικασία αρχαιολογικής χρονολόγη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υνήθως πρόκειται για καταστροφική για το δείγμα μέθοδο, κατά την οποία λαμβάνονται μικρές ποσότητες του υλικού του δείγματος για να χρησιμοποιηθούν, ύστερα από κατάλληλη προετοιμασία, για τη χρονολόγη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άρχουν και περιπτώσεις μη καταστροφικές για το δείγμα, κατά τις οποίες οι αναλύσεις του δείγματος πραγματοποιούνται επί του ίδιου του αντικειμένου, χωρίς κίνδυνο καταστροφής του.</a:t>
            </a:r>
            <a:endParaRPr b="0" lang="en-US" sz="2800" spc="-1" strike="noStrike">
              <a:solidFill>
                <a:srgbClr val="000000"/>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ξειδωτική και αναγωγική ατμόσφαιρα</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να από τους βασικούς παράγοντες του ψησίματος.</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καίγεται με λαμπερή φλόγα και με περίσσιο αέρα, τότε καίγεται όλος ο άνθρακας του καυσίμου και κάθε οργανική ύλη που ενυπάρχει στο υλικό του πηλού. Προκαλείται οξείδωση των μετάλλων κι έτσι έχουμε και χρωματισμό του πηλού</a:t>
            </a:r>
            <a:r>
              <a:rPr b="0" lang="en-US" sz="2800" spc="-1" strike="noStrike">
                <a:solidFill>
                  <a:srgbClr val="000000"/>
                </a:solidFill>
                <a:latin typeface="Wingdings"/>
                <a:ea typeface="Wingdings"/>
              </a:rPr>
              <a:t></a:t>
            </a:r>
            <a:r>
              <a:rPr b="0" lang="en-US" sz="2800" spc="-1" strike="noStrike">
                <a:solidFill>
                  <a:srgbClr val="000000"/>
                </a:solidFill>
                <a:latin typeface="Arial"/>
              </a:rPr>
              <a:t> οξειδωτική ατμόσφαιρα</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είναι υγρό και επικρατεί άπνοια και υγρασία, η υγρή καπνιά επικάθεται στο αγγείο, τα μεταλλικά οξείδια δίνουν κόκκινο ή μαύρο χρώμα.</a:t>
            </a:r>
            <a:r>
              <a:rPr b="0" lang="en-US" sz="2800" spc="-1" strike="noStrike">
                <a:solidFill>
                  <a:srgbClr val="000000"/>
                </a:solidFill>
                <a:latin typeface="Wingdings"/>
                <a:ea typeface="Wingdings"/>
              </a:rPr>
              <a:t></a:t>
            </a:r>
            <a:r>
              <a:rPr b="0" lang="en-US" sz="2800" spc="-1" strike="noStrike">
                <a:solidFill>
                  <a:srgbClr val="000000"/>
                </a:solidFill>
                <a:latin typeface="Arial"/>
              </a:rPr>
              <a:t> αναγωγική ατμόσφαιρα</a:t>
            </a:r>
            <a:endParaRPr b="0" lang="en-US" sz="2800" spc="-1" strike="noStrike">
              <a:solidFill>
                <a:srgbClr val="000000"/>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Υάλωμα ή εφυάλωση</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γυάλινο στρώμα στην επιφάνεια του κεραμικού, διάφανο ή αδιαφανές.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υπηρετεί λειτουργικούς και διακοσμητικούς λόγους.</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τελούνται από διοξείδιο του πυριτίου ή οξείδιο του Βορίου, από οξείδια μετάλλων που κατεβάζουν το σημείο τήξης του διοξειδίου του πυριτίου, που είναι οξείδια νατρίου, καλίου, ασβεστίου, βαρίου, μαγνησίου, ψευδαργύρου, αργιλίου. Επίσης περιέχουν οξείδια που δίνουν χρώμα στο υάλωμα, όπως τα οξείδια σιδήρου, κοβαλτίου, μαγγανίου, χαλκού, νικελίου</a:t>
            </a:r>
            <a:endParaRPr b="0" lang="en-US" sz="2800" spc="-1" strike="noStrike">
              <a:solidFill>
                <a:srgbClr val="000000"/>
              </a:solidFill>
              <a:latin typeface="Arial"/>
            </a:endParaRPr>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εφ)υάλωσης</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ύθιση στο αιώρη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ράγγισ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έγνω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ψήσιμο</a:t>
            </a:r>
            <a:endParaRPr b="0" lang="en-US" sz="3200" spc="-1" strike="noStrike">
              <a:solidFill>
                <a:srgbClr val="000000"/>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ΜΕΤΑΛΛΙΚΑ</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αλκ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ρείχαλκ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ίδηρ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όλυβδ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ήμ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υσ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σσίτερος</a:t>
            </a:r>
            <a:endParaRPr b="0" lang="en-US" sz="3200" spc="-1" strike="noStrike">
              <a:solidFill>
                <a:srgbClr val="000000"/>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ηματοδότηση ολόκληρων αρχαιολογικών περιόδων</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Χαλκ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σιδήρου</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νώση στην επεξεργασία μεταλλεύματος, ιδιαίτερη εξέλιξη στην καμινεία και την πυροτεχνολογία αφού η τήξη των υλικών αυτών απαιτεί θερμοκρασίες πάνω από 1100ο</a:t>
            </a:r>
            <a:r>
              <a:rPr b="0" lang="en-US" sz="3200" spc="-1" strike="noStrike">
                <a:solidFill>
                  <a:srgbClr val="000000"/>
                </a:solidFill>
                <a:latin typeface="Arial"/>
              </a:rPr>
              <a: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κευή όπλων, νομισμάτων, εργαλείων, σκευών</a:t>
            </a:r>
            <a:endParaRPr b="0" lang="en-US" sz="3200" spc="-1" strike="noStrike">
              <a:solidFill>
                <a:srgbClr val="000000"/>
              </a:solidFill>
              <a:latin typeface="Arial"/>
            </a:endParaRPr>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ΓΥΑΛΙΝΑ</a:t>
            </a:r>
            <a:endParaRPr b="0" lang="en-US" sz="4400" spc="-1" strike="noStrike">
              <a:solidFill>
                <a:srgbClr val="000000"/>
              </a:solidFill>
              <a:latin typeface="Arial"/>
            </a:endParaRPr>
          </a:p>
        </p:txBody>
      </p:sp>
      <p:sp>
        <p:nvSpPr>
          <p:cNvPr id="11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ρσελάν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αλωμέ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Φαγεντιαν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μάλτιν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ΓΩΓ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Σύντηξη λεπτόκοκκης άμμου(χαλαζίας </a:t>
            </a:r>
            <a:r>
              <a:rPr b="0" lang="en-US" sz="3200" spc="-1" strike="noStrike">
                <a:solidFill>
                  <a:srgbClr val="000000"/>
                </a:solidFill>
                <a:latin typeface="Arial"/>
              </a:rPr>
              <a:t>SiO2) </a:t>
            </a:r>
            <a:r>
              <a:rPr b="0" lang="el-GR" sz="3200" spc="-1" strike="noStrike">
                <a:solidFill>
                  <a:srgbClr val="000000"/>
                </a:solidFill>
                <a:latin typeface="Arial"/>
              </a:rPr>
              <a:t>με μεταβαλλόμενα οξείδια, που ελαττώνουν το σημείο τήξης από 1700</a:t>
            </a:r>
            <a:r>
              <a:rPr b="0" lang="en-US" sz="3200" spc="-1" strike="noStrike" baseline="30000">
                <a:solidFill>
                  <a:srgbClr val="000000"/>
                </a:solidFill>
                <a:latin typeface="Arial"/>
              </a:rPr>
              <a:t>o</a:t>
            </a:r>
            <a:r>
              <a:rPr b="0" lang="en-US" sz="3200" spc="-1" strike="noStrike">
                <a:solidFill>
                  <a:srgbClr val="000000"/>
                </a:solidFill>
                <a:latin typeface="Arial"/>
              </a:rPr>
              <a:t>C </a:t>
            </a:r>
            <a:r>
              <a:rPr b="0" lang="el-GR" sz="3200" spc="-1" strike="noStrike">
                <a:solidFill>
                  <a:srgbClr val="000000"/>
                </a:solidFill>
                <a:latin typeface="Arial"/>
              </a:rPr>
              <a:t>στους 1000ο</a:t>
            </a:r>
            <a:r>
              <a:rPr b="0" lang="en-US" sz="3200" spc="-1" strike="noStrike">
                <a:solidFill>
                  <a:srgbClr val="000000"/>
                </a:solidFill>
                <a:latin typeface="Arial"/>
              </a:rPr>
              <a:t>C</a:t>
            </a:r>
            <a:r>
              <a:rPr b="0" lang="el-GR" sz="3200" spc="-1" strike="noStrike">
                <a:solidFill>
                  <a:srgbClr val="000000"/>
                </a:solidFill>
                <a:latin typeface="Arial"/>
              </a:rPr>
              <a:t> περίπου</a:t>
            </a:r>
            <a:endParaRPr b="0" lang="en-US" sz="32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80880" y="990720"/>
            <a:ext cx="8382240" cy="421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Διαφορά υαλώματος και γυαλι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χουν μεν την ίδια σύσταση, αλλά το μεν γυαλί χρησιμοποιείται για να σχηματίσει τέχνεργα, το δε υάλωμα βασίζεται σε σώμα κεραμικ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συντελεστής διαστολής του γυαλιού είναί αδιάφορος κατά την ψύξη ενώ στο υάλωμα είναι σημαντικός για να μην «ξεφλουδίσει»</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γυαλί επιζητείται η διαφάνεια ενώ στο υάλωμα μια σχετική αδιαφάνεια</a:t>
            </a:r>
            <a:endParaRPr b="0" lang="en-US" sz="28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γεντιανή</a:t>
            </a:r>
            <a:r>
              <a:rPr b="0" lang="en-US" sz="3200" spc="-1" strike="noStrike">
                <a:solidFill>
                  <a:srgbClr val="000000"/>
                </a:solidFill>
                <a:latin typeface="Wingdings"/>
                <a:ea typeface="Wingdings"/>
              </a:rPr>
              <a:t></a:t>
            </a:r>
            <a:r>
              <a:rPr b="0" lang="en-US" sz="3200" spc="-1" strike="noStrike">
                <a:solidFill>
                  <a:srgbClr val="000000"/>
                </a:solidFill>
                <a:latin typeface="Arial"/>
              </a:rPr>
              <a:t> σύνθετο υλικ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ψιανός</a:t>
            </a:r>
            <a:r>
              <a:rPr b="0" lang="en-US" sz="3200" spc="-1" strike="noStrike">
                <a:solidFill>
                  <a:srgbClr val="000000"/>
                </a:solidFill>
                <a:latin typeface="Wingdings"/>
                <a:ea typeface="Wingdings"/>
              </a:rPr>
              <a:t></a:t>
            </a:r>
            <a:r>
              <a:rPr b="0" lang="en-US" sz="3200" spc="-1" strike="noStrike">
                <a:solidFill>
                  <a:srgbClr val="000000"/>
                </a:solidFill>
                <a:latin typeface="Arial"/>
              </a:rPr>
              <a:t> άλλο είδος φυσικού γυαλιού, ηφαιστειογενές, γυαλιστερό και σκληρό, που χρησιμοποιήθηκε ιδιαίτερα κατά την παλαιολιθική περίοδο.</a:t>
            </a:r>
            <a:endParaRPr b="0" lang="en-US" sz="3200" spc="-1" strike="noStrike">
              <a:solidFill>
                <a:srgbClr val="000000"/>
              </a:solidFill>
              <a:latin typeface="Arial"/>
            </a:endParaRPr>
          </a:p>
        </p:txBody>
      </p:sp>
      <p:pic>
        <p:nvPicPr>
          <p:cNvPr id="113" name="" descr=""/>
          <p:cNvPicPr/>
          <p:nvPr/>
        </p:nvPicPr>
        <p:blipFill>
          <a:blip r:embed="rId2"/>
          <a:stretch/>
        </p:blipFill>
        <p:spPr>
          <a:xfrm>
            <a:off x="1371600" y="2590920"/>
            <a:ext cx="1430280" cy="2762280"/>
          </a:xfrm>
          <a:prstGeom prst="rect">
            <a:avLst/>
          </a:prstGeom>
          <a:ln w="0">
            <a:noFill/>
          </a:ln>
        </p:spPr>
      </p:pic>
      <p:pic>
        <p:nvPicPr>
          <p:cNvPr id="114" name="" descr=""/>
          <p:cNvPicPr/>
          <p:nvPr/>
        </p:nvPicPr>
        <p:blipFill>
          <a:blip r:embed="rId3"/>
          <a:stretch/>
        </p:blipFill>
        <p:spPr>
          <a:xfrm>
            <a:off x="4572000" y="2590920"/>
            <a:ext cx="3870360" cy="2732040"/>
          </a:xfrm>
          <a:prstGeom prst="rect">
            <a:avLst/>
          </a:prstGeom>
          <a:ln w="0">
            <a:noFill/>
          </a:ln>
        </p:spPr>
      </p:pic>
      <p:sp>
        <p:nvSpPr>
          <p:cNvPr id="115" name=""/>
          <p:cNvSpPr/>
          <p:nvPr/>
        </p:nvSpPr>
        <p:spPr>
          <a:xfrm>
            <a:off x="152280" y="5391000"/>
            <a:ext cx="8839440" cy="147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Η μεγάλη θεά των όφεων, από φαγεντιανή, 1600π.Χ, Κνωσός</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Εργαλεία οψιανού, από τα Καλάβρυτα, ύστερη νεολιθική</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Πηγή: </a:t>
            </a:r>
            <a:r>
              <a:rPr b="0" lang="en-US" sz="1800" spc="-1" strike="noStrike" u="sng">
                <a:solidFill>
                  <a:srgbClr val="009999"/>
                </a:solidFill>
                <a:uFillTx/>
                <a:latin typeface="Times New Roman"/>
                <a:hlinkClick r:id="rId4"/>
              </a:rPr>
              <a:t>http://photo.kathimerini.gr/kathnews/photos/30-11-03/30-11-03_1281020_91.jpg</a:t>
            </a:r>
            <a:r>
              <a:rPr b="0" lang="en-US" sz="1800" spc="-1" strike="noStrike" u="sng">
                <a:solidFill>
                  <a:srgbClr val="000000"/>
                </a:solidFill>
                <a:uFillTx/>
                <a:latin typeface="Times New Roman"/>
              </a:rPr>
              <a:t> και http://www.rhodes.aegean.gr/tms/Ακαδημαϊκά/Ανασκαφές</a:t>
            </a:r>
            <a:endParaRPr b="0" lang="en-US" sz="18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λά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τροποποιητή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θετ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2 τροποποιητέ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Ύαλος Βοημίας</a:t>
            </a:r>
            <a:r>
              <a:rPr b="0" lang="el-GR" sz="2800" spc="-1" strike="noStrike">
                <a:solidFill>
                  <a:srgbClr val="000000"/>
                </a:solidFill>
                <a:latin typeface="Wingdings"/>
                <a:ea typeface="Wingdings"/>
              </a:rPr>
              <a:t></a:t>
            </a:r>
            <a:r>
              <a:rPr b="0" lang="el-GR" sz="2800" spc="-1" strike="noStrike">
                <a:solidFill>
                  <a:srgbClr val="000000"/>
                </a:solidFill>
                <a:latin typeface="Arial"/>
              </a:rPr>
              <a:t> Κ2Ο+</a:t>
            </a:r>
            <a:r>
              <a:rPr b="0" lang="en-US" sz="2800" spc="-1" strike="noStrike">
                <a:solidFill>
                  <a:srgbClr val="000000"/>
                </a:solidFill>
                <a:latin typeface="Arial"/>
              </a:rPr>
              <a:t>Ca</a:t>
            </a:r>
            <a:r>
              <a:rPr b="0" lang="el-GR" sz="2800" spc="-1" strike="noStrike">
                <a:solidFill>
                  <a:srgbClr val="000000"/>
                </a:solidFill>
                <a:latin typeface="Arial"/>
              </a:rPr>
              <a:t>Ο</a:t>
            </a:r>
            <a:r>
              <a:rPr b="0" lang="en-US" sz="2800" spc="-1" strike="noStrike">
                <a:solidFill>
                  <a:srgbClr val="000000"/>
                </a:solidFill>
                <a:latin typeface="Arial"/>
              </a:rPr>
              <a:t>+</a:t>
            </a:r>
            <a:r>
              <a:rPr b="0" lang="el-GR" sz="2800" spc="-1" strike="noStrike">
                <a:solidFill>
                  <a:srgbClr val="000000"/>
                </a:solidFill>
                <a:latin typeface="Arial"/>
              </a:rPr>
              <a:t>πυρίτι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πλοκ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εριέχουν πολλές προσμίξεις. Οι τροποποιητές προέρχονται από πυριγενή πετρώ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άλωμ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ανάλογα με την εμφάνισή τους διακρίνονται σε καθαρά- διαφανή, ημιδιαφανή και αδιαφανή</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ι τροποποιητές είναι κάποια στοιχεία που προστίθενται στο γυαλί για να προσδώσουν κάποιες ιδιότητες, όπως φωτισμό, πυκνότητα, υψηλά σημεία τήξης με αποτέλεσμα καθαρότερο γυαλί. Είναι συνήθως </a:t>
            </a:r>
            <a:r>
              <a:rPr b="0" lang="en-US" sz="2800" spc="-1" strike="noStrike">
                <a:solidFill>
                  <a:srgbClr val="000000"/>
                </a:solidFill>
                <a:latin typeface="Arial"/>
              </a:rPr>
              <a:t>K, Na, Ca, Pb</a:t>
            </a:r>
            <a:endParaRPr b="0" lang="en-US" sz="2800" spc="-1" strike="noStrike">
              <a:solidFill>
                <a:srgbClr val="000000"/>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876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είτω, Αθήνα, σ.σ. </a:t>
            </a:r>
            <a:r>
              <a:rPr b="0" lang="en-US" sz="2000" spc="-1" strike="noStrike">
                <a:solidFill>
                  <a:srgbClr val="000000"/>
                </a:solidFill>
                <a:latin typeface="Arial"/>
              </a:rPr>
              <a:t>129-130</a:t>
            </a:r>
            <a:endParaRPr b="0" lang="en-US" sz="2000" spc="-1" strike="noStrike">
              <a:solidFill>
                <a:srgbClr val="000000"/>
              </a:solidFill>
              <a:latin typeface="Arial"/>
            </a:endParaRPr>
          </a:p>
        </p:txBody>
      </p:sp>
      <p:pic>
        <p:nvPicPr>
          <p:cNvPr id="118" name="" descr=""/>
          <p:cNvPicPr/>
          <p:nvPr/>
        </p:nvPicPr>
        <p:blipFill>
          <a:blip r:embed="rId2"/>
          <a:stretch/>
        </p:blipFill>
        <p:spPr>
          <a:xfrm>
            <a:off x="250920" y="0"/>
            <a:ext cx="3889440" cy="3519360"/>
          </a:xfrm>
          <a:prstGeom prst="rect">
            <a:avLst/>
          </a:prstGeom>
          <a:ln w="0">
            <a:noFill/>
          </a:ln>
        </p:spPr>
      </p:pic>
      <p:pic>
        <p:nvPicPr>
          <p:cNvPr id="119" name="" descr=""/>
          <p:cNvPicPr/>
          <p:nvPr/>
        </p:nvPicPr>
        <p:blipFill>
          <a:blip r:embed="rId3"/>
          <a:stretch/>
        </p:blipFill>
        <p:spPr>
          <a:xfrm>
            <a:off x="4067280" y="2708280"/>
            <a:ext cx="4825800" cy="32288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αραδείγματ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ρχαία νομίσματα, είναι απαραίτητη η μη καταστροφική μέθοδος. Χρησιμοποιούνται αναλύσεις με ακτινοβολίες (φασματοσκοπική μέθοδος ακτινών Χ), η οποία ανιχνεύει κάποια 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προύτζινα (κασσίτερος και χαλκός) αντικείμενα, στα οποία με τρυπανάκι αποσπάται δείγμα σε μορφή ρινίσματος, της τάξεως των χιλιοστών των γραμμαρίων ή γραμμαρίων, και μεταφέρεται στα εργαστήρια για ανάλυση.</a:t>
            </a:r>
            <a:endParaRPr b="0" lang="en-US" sz="2800" spc="-1" strike="noStrike">
              <a:solidFill>
                <a:srgbClr val="000000"/>
              </a:solidFill>
              <a:latin typeface="Arial"/>
            </a:endParaRPr>
          </a:p>
        </p:txBody>
      </p:sp>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2179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αποθέωση του Αυγούστου, Ρωμαϊκή καμέα, 1ος μ. Χ. αι. πηγή: http://cache.eb.com/eb/image?id=7059&amp;rendTypeId=4</a:t>
            </a:r>
            <a:endParaRPr b="0" lang="en-US" sz="1600" spc="-1" strike="noStrike">
              <a:solidFill>
                <a:srgbClr val="000000"/>
              </a:solidFill>
              <a:latin typeface="Arial"/>
            </a:endParaRPr>
          </a:p>
        </p:txBody>
      </p:sp>
      <p:pic>
        <p:nvPicPr>
          <p:cNvPr id="121" name="" descr=""/>
          <p:cNvPicPr/>
          <p:nvPr/>
        </p:nvPicPr>
        <p:blipFill>
          <a:blip r:embed="rId2"/>
          <a:stretch/>
        </p:blipFill>
        <p:spPr>
          <a:xfrm>
            <a:off x="1371600" y="0"/>
            <a:ext cx="6400800" cy="58006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οσότητα του δείγματος καθορίζεται και από τους αρχαιολόγους και από τους αρχαιολάτρες, οι οποίοι είναι και οι υπεύθυνοι του υπολογισμού των μετρήσεων που θα αποφέρουν οι αναλύσεις. Οι αρχαιολόγοι θα τοποθετήσουν το εύρημα βάσει της ηλικίας που απέδωσαν οι μετρήσεις στο κατάλληλο αρχαιολογικό πλαίσιο, θέτοντάς το παράλληλα με άλλα ευρήματα πιστοποιημένης ηλικίας.</a:t>
            </a:r>
            <a:endParaRPr b="0" lang="en-US" sz="32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ας ενδιαφέρει η ανάλυση και της εξώτερης επιφάνειας του δείγματος και της ενδότερης, σε συγκεκριμένα αντικείμενα. Σε μεταλλικά τα οποία βρέθηκαν θαμμένα και πολύ πιθανό άκρως διαβρωμένα, η εξωτερική επιφάνεια δε μας ενδιαφέρει. Σε κεραμικά τα οποία διαθέτουν εφυάλωση, μας ενδιαφέρει και το υλικό της εφυάλωσης και ο πηλός του κεραμικού. Πολλές φορές μπορεί να χρειαστεί και η ανάλυση ενός μέρους της επιφάνειας, π.χ. μιας χρωστικής. Η μέθοδος που χρησιμοποιείται είναι η φασματοσκοπία ακτίνων Χ φθορισμού.  </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λογα με τον τύπο του τεχνεργου μπορεί να απαιτείται ο υπολογισμός της συγκέντρωσης κυρίων χημικών στοιχείων </a:t>
            </a:r>
            <a:r>
              <a:rPr b="0" lang="en-US" sz="2800" spc="-1" strike="noStrike">
                <a:solidFill>
                  <a:srgbClr val="000000"/>
                </a:solidFill>
                <a:latin typeface="Arial"/>
              </a:rPr>
              <a:t>(major </a:t>
            </a:r>
            <a:r>
              <a:rPr b="0" lang="el-GR" sz="2800" spc="-1" strike="noStrike">
                <a:solidFill>
                  <a:srgbClr val="000000"/>
                </a:solidFill>
                <a:latin typeface="Arial"/>
              </a:rPr>
              <a:t>με περιεκτικότητα </a:t>
            </a:r>
            <a:r>
              <a:rPr b="0" lang="en-US" sz="2800" spc="-1" strike="noStrike">
                <a:solidFill>
                  <a:srgbClr val="000000"/>
                </a:solidFill>
                <a:latin typeface="Arial"/>
              </a:rPr>
              <a:t>1%)</a:t>
            </a:r>
            <a:r>
              <a:rPr b="0" lang="el-GR" sz="2800" spc="-1" strike="noStrike">
                <a:solidFill>
                  <a:srgbClr val="000000"/>
                </a:solidFill>
                <a:latin typeface="Arial"/>
              </a:rPr>
              <a:t>. Υπάρχει όμως και η πιθανότητα μια τέτοια ανάλυση να μην είναι αρκετή και να χρειάζεται και υπολογισμός των στοιχείων μικρής- ελάχιστης συγκέντρωσης (</a:t>
            </a:r>
            <a:r>
              <a:rPr b="0" lang="en-US" sz="2800" spc="-1" strike="noStrike">
                <a:solidFill>
                  <a:srgbClr val="000000"/>
                </a:solidFill>
                <a:latin typeface="Arial"/>
              </a:rPr>
              <a:t> minor, </a:t>
            </a:r>
            <a:r>
              <a:rPr b="0" lang="el-GR" sz="2800" spc="-1" strike="noStrike">
                <a:solidFill>
                  <a:srgbClr val="000000"/>
                </a:solidFill>
                <a:latin typeface="Arial"/>
              </a:rPr>
              <a:t>με περιεκτικότητα 0,01% έως 1%) ή ιχνοστοιχείων(</a:t>
            </a:r>
            <a:r>
              <a:rPr b="0" lang="en-US" sz="2800" spc="-1" strike="noStrike">
                <a:solidFill>
                  <a:srgbClr val="000000"/>
                </a:solidFill>
                <a:latin typeface="Arial"/>
              </a:rPr>
              <a:t> trace elements, </a:t>
            </a:r>
            <a:r>
              <a:rPr b="0" lang="el-GR" sz="2800" spc="-1" strike="noStrike">
                <a:solidFill>
                  <a:srgbClr val="000000"/>
                </a:solidFill>
                <a:latin typeface="Arial"/>
              </a:rPr>
              <a:t>με περιεκτικότητα &lt;0,0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κρίβεια που απαιτείται για τις μετρήσεις των συγκεντρώσεων για να είναι ικανοποιητικό το αποτέλεσμα είναι </a:t>
            </a:r>
            <a:r>
              <a:rPr b="0" lang="en-US" sz="2800" spc="-1" strike="noStrike">
                <a:solidFill>
                  <a:srgbClr val="000000"/>
                </a:solidFill>
                <a:latin typeface="Arial"/>
              </a:rPr>
              <a:t>±</a:t>
            </a:r>
            <a:r>
              <a:rPr b="0" lang="el-GR" sz="2800" spc="-1" strike="noStrike">
                <a:solidFill>
                  <a:srgbClr val="000000"/>
                </a:solidFill>
                <a:latin typeface="Arial"/>
              </a:rPr>
              <a:t>5% και </a:t>
            </a:r>
            <a:r>
              <a:rPr b="0" lang="en-US" sz="2800" spc="-1" strike="noStrike">
                <a:solidFill>
                  <a:srgbClr val="000000"/>
                </a:solidFill>
                <a:latin typeface="Arial"/>
              </a:rPr>
              <a:t>±</a:t>
            </a:r>
            <a:r>
              <a:rPr b="0" lang="el-GR" sz="2800" spc="-1" strike="noStrike">
                <a:solidFill>
                  <a:srgbClr val="000000"/>
                </a:solidFill>
                <a:latin typeface="Arial"/>
              </a:rPr>
              <a:t>10%.</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147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αλυτική διαδικασία</a:t>
            </a:r>
            <a:endParaRPr b="0" lang="en-US" sz="4000" spc="-1" strike="noStrike">
              <a:solidFill>
                <a:srgbClr val="000000"/>
              </a:solidFill>
              <a:latin typeface="Arial"/>
            </a:endParaRPr>
          </a:p>
        </p:txBody>
      </p:sp>
      <p:sp>
        <p:nvSpPr>
          <p:cNvPr id="58" name="PlaceHolder 2"/>
          <p:cNvSpPr>
            <a:spLocks noGrp="1"/>
          </p:cNvSpPr>
          <p:nvPr>
            <p:ph/>
          </p:nvPr>
        </p:nvSpPr>
        <p:spPr>
          <a:xfrm>
            <a:off x="456840" y="836640"/>
            <a:ext cx="821844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πολύ μικρό ποσοστό του δείγματος αποσπάται. Η σύστασή του είναι αντιπροσωπευτική του υλικού ολόκληρου.  Σε ετερογενή υλικά, όπως ο πηλός, πρέπει να λαμβάνουμε δείγμα από μεγάλο αριθμό τμημάτων τα οποία στο τέλος συνδυάζονται σε μια μέση τιμ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ετοιμασία</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λεπτή τομή, σκόνη- κονιορτοποίηση, διάλυμα. Εξαρτάται από τη μέθοδο ανάλυσης που θα χρησιμοποιηθεί.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άλυση και προσδιορισμός χημικών στοιχείων</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οι ποσοστιαίες συγκεντρώσεις των χημικών στοιχείων, ανάλογα με την ευαισθησία των μεθόδων, διακρίνονται σε ιχνοστοιχεία, σε ελάχιστα και σε κύρι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Υπολογισμοί</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μαθηματικές μέθοδοι, τύποι, εξισώσεις και </a:t>
            </a:r>
            <a:r>
              <a:rPr b="0" lang="en-US" sz="2400" spc="-1" strike="noStrike">
                <a:solidFill>
                  <a:srgbClr val="000000"/>
                </a:solidFill>
                <a:latin typeface="Arial"/>
              </a:rPr>
              <a:t>software</a:t>
            </a:r>
            <a:r>
              <a:rPr b="0" lang="el-GR" sz="2400" spc="-1" strike="noStrike">
                <a:solidFill>
                  <a:srgbClr val="000000"/>
                </a:solidFill>
                <a:latin typeface="Arial"/>
              </a:rPr>
              <a:t> χρησιμοποιούνται για την εκτίμηση των αναλυτικών δεδομένω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λετητής</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ερμηνεία δεδομένων και τοποθέτηση του αντικειμένου σε συγκεκριμένο αρχαιολογικό περιβάλλον.</a:t>
            </a:r>
            <a:endParaRPr b="0" lang="en-US" sz="24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η καταστροφικές μέθοδοι ανάλυσης</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τίνες Χ φθορισμο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κέδαση </a:t>
            </a:r>
            <a:r>
              <a:rPr b="0" lang="en-US" sz="2400" spc="-1" strike="noStrike">
                <a:solidFill>
                  <a:srgbClr val="000000"/>
                </a:solidFill>
                <a:latin typeface="Arial"/>
              </a:rPr>
              <a:t>Compton</a:t>
            </a:r>
            <a:r>
              <a:rPr b="0" lang="el-GR" sz="2400" spc="-1" strike="noStrike">
                <a:solidFill>
                  <a:srgbClr val="000000"/>
                </a:solidFill>
                <a:latin typeface="Arial"/>
              </a:rPr>
              <a:t> για χαρτογράφηση χημικών στοιχεί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ασματοσκοπία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μογραφία </a:t>
            </a:r>
            <a:r>
              <a:rPr b="0" lang="en-US" sz="2400" spc="-1" strike="noStrike">
                <a:solidFill>
                  <a:srgbClr val="000000"/>
                </a:solidFill>
                <a:latin typeface="Arial"/>
              </a:rPr>
              <a:t>3D</a:t>
            </a:r>
            <a:r>
              <a:rPr b="0" lang="el-GR" sz="2400" spc="-1" strike="noStrike">
                <a:solidFill>
                  <a:srgbClr val="000000"/>
                </a:solidFill>
                <a:latin typeface="Arial"/>
              </a:rPr>
              <a:t> ή ακτίνες Χ ή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υτοραδιογραφία με νετρόνι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Ραδιογραφί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ηχο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υθρη φασματοσκοπία </a:t>
            </a:r>
            <a:r>
              <a:rPr b="0" lang="en-US" sz="2400" spc="-1" strike="noStrike">
                <a:solidFill>
                  <a:srgbClr val="000000"/>
                </a:solidFill>
                <a:latin typeface="Arial"/>
              </a:rPr>
              <a:t>Furr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ωραντά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στημα μικροσκοπίου και βίντεο</a:t>
            </a:r>
            <a:endParaRPr b="0" lang="en-US" sz="24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01:59Z</dcterms:created>
  <dc:creator>Customer</dc:creator>
  <dc:description/>
  <dc:language>en-US</dc:language>
  <cp:lastModifiedBy> </cp:lastModifiedBy>
  <dcterms:modified xsi:type="dcterms:W3CDTF">2008-06-10T11:54:50Z</dcterms:modified>
  <cp:revision>16</cp:revision>
  <dc:subject/>
  <dc:title>Τέχνεργα Artifacts</dc:title>
</cp:coreProperties>
</file>