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65AF-1DBE-43DF-B6DA-FF5C26E0056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ραδέα ή θερμικά και ταχέ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υρηνικοί αντιδραστήρες ή οι επιταχυντές σωματιδίων παράγουν νετρόνια μέσω πυρηνικών αντιδράσεων σχάσιμου υλικού [όπως του ουράνιο και το πλουτώνιο] ή μέσω απλών πυρηνικών αντιδράσε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ην επιβράδυνση των παραγόμενων νετρονίων [επιβραδύνονται με νερό ή γραφίτη], οι ταχύτητες μικραίνουν και εκλύεται μεγάλη θερμική ενέργεια. Τότε τα θερμικά ή βραδέα μπορούν εύκολα να «συλληφθούν» από τον πυρήν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ταχέα νετρόνια δε συλλαμβάνονται εύκολ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ην ανίχνευση κάποιων στοιχείων χρησιμοποιούνται τα βραδέα νετρόνια, ενώ για άλλα στοιχεία χρησιμοποιούνται τα ταχέ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οργανικές ενώσεισ αποτελούνται από άνθρακα που ενώνεται με άλλα στοιχεία ή με τον εαυτό του και σχηματίζουν μόρια με μικρούς-ές ή μεγάλους-ες δακτυλίους ή αλυσίδες ατόμων. δεν ορίζονται σαν ουσίες που παράγονται από ζώντες οργανισμούς. Πρόκειται για ενώσεις άνθρακα. Εξαιρούνται το μονοξείδιο του άνθρακα, το διοξείδιο του άνθρακα, τα καρβίδια, τα κυανιούχα άλατα και τα άλατα του ανθρακικού οξέ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κριβέστερα είναι οι ενώσεισ που έχουν δεσμό </a:t>
            </a:r>
            <a:r>
              <a:rPr b="0" lang="en-US" sz="1200" spc="-1" strike="noStrike">
                <a:solidFill>
                  <a:srgbClr val="000000"/>
                </a:solidFill>
                <a:latin typeface="Times New Roman"/>
              </a:rPr>
              <a:t>C-C </a:t>
            </a:r>
            <a:r>
              <a:rPr b="0" lang="el-GR" sz="1200" spc="-1" strike="noStrike">
                <a:solidFill>
                  <a:srgbClr val="000000"/>
                </a:solidFill>
                <a:latin typeface="Times New Roman"/>
              </a:rPr>
              <a:t>ή </a:t>
            </a:r>
            <a:r>
              <a:rPr b="0" lang="en-US" sz="1200" spc="-1" strike="noStrike">
                <a:solidFill>
                  <a:srgbClr val="000000"/>
                </a:solidFill>
                <a:latin typeface="Times New Roman"/>
              </a:rPr>
              <a:t>C-H </a:t>
            </a:r>
            <a:r>
              <a:rPr b="0" lang="el-GR" sz="1200" spc="-1" strike="noStrike">
                <a:solidFill>
                  <a:srgbClr val="000000"/>
                </a:solidFill>
                <a:latin typeface="Times New Roman"/>
              </a:rPr>
              <a:t>[αμινοξέα, εστέρες, ουρικό οξύ, χουμικό οξύ, βενζόλιο, παραφίνες]. Στην καθημερινή μας ζωή μιλάμε για ξύλο, δέρμα, κάρβουνο, χαρτί, ύφασμα, οστά.</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τα σιδηρά αντικείμενα οξειδούμενα σκουριάζουν</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αποβάλλουν ηλεκτρόνια (</a:t>
            </a:r>
            <a:r>
              <a:rPr b="0" lang="en-US" sz="1200" spc="-1" strike="noStrike">
                <a:solidFill>
                  <a:srgbClr val="000000"/>
                </a:solidFill>
                <a:latin typeface="Times New Roman"/>
              </a:rPr>
              <a:t>Fe3+</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Fe2</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σκουριά αυτή διαφέρει από τη σκωρία [=ό,τι αποβάλλεται κατά τις εκκαμινεύσεις μεταλλεύματος (τήξη για το διαχωρισμό μετάλλ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λάδος της γεωλογίας που εξετάζει τα ορυκτά πετρώματα, δηλαδή την κρυσταλλογραφική τους διάταξη, τη χημική τους μορφή, τις προσμίξεις τους, τις ιδιότητές τους, φυσικές, χημικές κ.α., όπως τη διαφάνειά τους στο φως, την αγωγιμότητά τους, τη σκληρότητά του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διαχωρισμός των μηκών κύματος γίνετια με φασματογραφικά όργανα, χρησιμοποιώντας το φαινόμενο της διάθλασης, περίθλασης ή συμβολής, δηλαδή με πρίσμα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ταν φωτεινές ακτίνες προσπίπτουν σε λεπτή σχισμή υφίστανται περίθλαση, διασπώνται προς όλες τις κατευθύνσεις, σαν η σχισμή να είναι δευτερογενής πηγή ακτινοβολίας. Εάν αντί της μίας σχισμής υπάρχουν πολλές κανονικά διατεταγμένες σχισμέσ, τότε μιλάμε για περιθλώμενες ακτίνες και για μία συσκευή που λέγεται περιθλασιόμετρο.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εριθλ’ώμενες ακτίνες συμβάλλουν προς ορισμένες διευθύθνσεις αλλού ενισχυόμενες κι αλλού εξασθενούμενες.οι σχισμέσ συμπεριφέρονται σαν δευτερογενείς πηγές συνοχής</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ε προηγούμενη παρουσίαση αναφέρθηκ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ατομικό μοντέλο του </a:t>
            </a:r>
            <a:r>
              <a:rPr b="0" lang="en-US" sz="1200" spc="-1" strike="noStrike">
                <a:solidFill>
                  <a:srgbClr val="000000"/>
                </a:solidFill>
                <a:latin typeface="Times New Roman"/>
              </a:rPr>
              <a:t>Bohr</a:t>
            </a:r>
            <a:r>
              <a:rPr b="0" lang="el-GR" sz="1200" spc="-1" strike="noStrike">
                <a:solidFill>
                  <a:srgbClr val="000000"/>
                </a:solidFill>
                <a:latin typeface="Times New Roman"/>
              </a:rPr>
              <a:t> το φως εκπέμπεται όταν ένα ατομικό ηλεκτρόνιο πηδάει από μια τροχιά σε άλλη τροχιά. Η ενέργεια Ε που μεταφέρει το φως ισούται με τη διαφορά των ενεργειών του ηλεκτρονίου πριν και μετ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D2E2A-BCCE-4BD3-82A5-F8F0A0DBC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4EB25-31FF-47E1-A31E-5C2B3E69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038CB-DEFC-4854-81E1-F6DF53C7B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91612-F7BE-4CB3-8B74-8CAC673A3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3AE1B-3247-4D7F-96BA-5D2038454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9FF81-00A4-40F3-AB0B-1E8210C48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70B6F-369E-416D-8C01-A4225A3D7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05C85-9405-45CF-AFAC-BAFB4A495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DCC0F-C15C-434E-BEC0-FF85EA0E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3FEB-2335-4F83-A395-9A8DED906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7F3DF-C952-4C20-9CEB-F342D304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11E96-03AC-49C8-AD15-B1F6A0EEB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0B64-0DBB-40AB-AD5C-622D14DA1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200" spc="-1" strike="noStrike">
                <a:solidFill>
                  <a:srgbClr val="000000"/>
                </a:solidFill>
                <a:latin typeface="Times New Roman"/>
              </a:rPr>
              <a:t>ορολογία φυσικών επιστημών </a:t>
            </a:r>
            <a:br>
              <a:rPr sz="7200"/>
            </a:br>
            <a:r>
              <a:rPr b="0" lang="el-GR" sz="7200" spc="-1" strike="noStrike">
                <a:solidFill>
                  <a:srgbClr val="000000"/>
                </a:solidFill>
                <a:latin typeface="Times New Roman"/>
              </a:rPr>
              <a:t>με εφαρμογή </a:t>
            </a:r>
            <a:br>
              <a:rPr sz="7200"/>
            </a:br>
            <a:r>
              <a:rPr b="0" lang="el-GR" sz="7200" spc="-1" strike="noStrike">
                <a:solidFill>
                  <a:srgbClr val="000000"/>
                </a:solidFill>
                <a:latin typeface="Times New Roman"/>
              </a:rPr>
              <a:t>στην αρχαιολογία</a:t>
            </a:r>
            <a:r>
              <a:rPr b="0" lang="el-GR" sz="4400" spc="-1" strike="noStrike">
                <a:solidFill>
                  <a:srgbClr val="000000"/>
                </a:solidFill>
                <a:latin typeface="Times New Roman"/>
              </a:rPr>
              <a:t> </a:t>
            </a:r>
            <a:br>
              <a:rPr sz="4400"/>
            </a:br>
            <a:br>
              <a:rPr sz="4400"/>
            </a:br>
            <a:r>
              <a:rPr b="0" lang="en-US" sz="4400" spc="-1" strike="noStrike">
                <a:solidFill>
                  <a:srgbClr val="000000"/>
                </a:solidFill>
                <a:latin typeface="Times New Roman"/>
              </a:rPr>
              <a:t>B </a:t>
            </a:r>
            <a:r>
              <a:rPr b="0" lang="el-GR" sz="4400" spc="-1" strike="noStrike">
                <a:solidFill>
                  <a:srgbClr val="000000"/>
                </a:solidFill>
                <a:latin typeface="Times New Roman"/>
              </a:rPr>
              <a:t>Μέρος</a:t>
            </a:r>
            <a:endParaRPr b="0" lang="en-US" sz="4400" spc="-1" strike="noStrike">
              <a:solidFill>
                <a:srgbClr val="000000"/>
              </a:solidFill>
              <a:latin typeface="Times New Roman"/>
            </a:endParaRPr>
          </a:p>
        </p:txBody>
      </p:sp>
    </p:spTree>
  </p:cSld>
  <p:transition>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71440" y="2052720"/>
            <a:ext cx="8601120" cy="2752560"/>
          </a:xfrm>
          <a:prstGeom prst="rect">
            <a:avLst/>
          </a:prstGeom>
          <a:ln w="0">
            <a:noFill/>
          </a:ln>
        </p:spPr>
      </p:pic>
      <p:sp>
        <p:nvSpPr>
          <p:cNvPr id="60"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2000" spc="-1" strike="noStrike">
                <a:solidFill>
                  <a:srgbClr val="000000"/>
                </a:solidFill>
                <a:latin typeface="Tahoma"/>
              </a:rPr>
              <a:t>Πηγή: http://library.thinkquest.org/19662/images/eng/pages/model-bohr-3.jpg</a:t>
            </a:r>
            <a:endParaRPr b="0" lang="en-US" sz="2000" spc="-1" strike="noStrike">
              <a:solidFill>
                <a:srgbClr val="000000"/>
              </a:solidFill>
              <a:latin typeface="Times New Roman"/>
            </a:endParaRPr>
          </a:p>
        </p:txBody>
      </p:sp>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560" y="380520"/>
            <a:ext cx="883908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Χημικά σύμβολα, χημικοί τύποι και χημικές εξισώσεις</a:t>
            </a:r>
            <a:r>
              <a:rPr b="0" lang="en-US" sz="3200" spc="-1" strike="noStrike">
                <a:solidFill>
                  <a:srgbClr val="000000"/>
                </a:solidFill>
                <a:latin typeface="Wingdings"/>
                <a:ea typeface="Wingdings"/>
              </a:rPr>
              <a:t></a:t>
            </a:r>
            <a:r>
              <a:rPr b="0" lang="en-US" sz="3200" spc="-1" strike="noStrike">
                <a:solidFill>
                  <a:srgbClr val="000000"/>
                </a:solidFill>
                <a:latin typeface="Tahoma"/>
              </a:rPr>
              <a:t> Χημικό σύμβολο είναι το συντετμημένο όνομα του στοιχείου. Χημικός τύπος είναι συντετμημένη έκφραση μιας χημικής ένωσης. Η εξίσωση είναι μια μαθηματική έκφραση που περιέχει γνωστές και άγνωστες παραμέτρους ή μεταβλητές σε μια ίση ποσότητα και στα δύο μέλη της ισότητας. Από την εξίσωση υπολογίζεται η άγνωστη μεταβλητή με αλγεβρικές διαδικασίες και υπολογισμούς. </a:t>
            </a:r>
            <a:endParaRPr b="0" lang="en-US" sz="3200" spc="-1" strike="noStrike">
              <a:solidFill>
                <a:srgbClr val="000000"/>
              </a:solidFill>
              <a:latin typeface="Times New Roman"/>
            </a:endParaRPr>
          </a:p>
        </p:txBody>
      </p:sp>
    </p:spTree>
  </p:cSld>
  <p:transition>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380880"/>
            <a:ext cx="8458200" cy="6096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Χημικά στοιχεία</a:t>
            </a:r>
            <a:r>
              <a:rPr b="0" lang="en-US" sz="3200" spc="-1" strike="noStrike">
                <a:solidFill>
                  <a:srgbClr val="000000"/>
                </a:solidFill>
                <a:latin typeface="Wingdings"/>
                <a:ea typeface="Wingdings"/>
              </a:rPr>
              <a:t></a:t>
            </a:r>
            <a:r>
              <a:rPr b="0" lang="en-US" sz="3200" spc="-1" strike="noStrike">
                <a:solidFill>
                  <a:srgbClr val="000000"/>
                </a:solidFill>
                <a:latin typeface="Tahoma"/>
              </a:rPr>
              <a:t> βασικοί δομικοί λίθοι της ύλης. Όλα τους τα άτομα είναι παρόμοια. Τα άτομά τους δε διαχωρίζονται με χημικούς τρόπους σε απλούστερες ουσίες. Έχουν συγκεκριμένα φυσικά και χημικά χαρακτηριστικά και καταλαμβάνουν συγκεκριμένη θέση στον περιοδικό πίνακα των στοιχείων.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Μέχρι σήμερα μπορούν να αναγνωριστούν 105 στοιχεία. Κάθε στοιχείο αντιπροσωπεύεται από ένα άτομο που έχει συγκεκριμένο αριθμό ηλεκτρονίων, πρωτονίων και νετρονίων.</a:t>
            </a:r>
            <a:endParaRPr b="0" lang="en-US" sz="3200" spc="-1" strike="noStrike">
              <a:solidFill>
                <a:srgbClr val="000000"/>
              </a:solidFill>
              <a:latin typeface="Times New Roman"/>
            </a:endParaRPr>
          </a:p>
        </p:txBody>
      </p:sp>
    </p:spTree>
  </p:cSld>
  <p:transition>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lum contrast="18000"/>
          </a:blip>
          <a:stretch/>
        </p:blipFill>
        <p:spPr>
          <a:xfrm>
            <a:off x="0" y="457200"/>
            <a:ext cx="9144000" cy="5943600"/>
          </a:xfrm>
          <a:prstGeom prst="rect">
            <a:avLst/>
          </a:prstGeom>
          <a:ln w="0">
            <a:noFill/>
          </a:ln>
        </p:spPr>
      </p:pic>
      <p:sp>
        <p:nvSpPr>
          <p:cNvPr id="64" name="PlaceHolder 1"/>
          <p:cNvSpPr>
            <a:spLocks noGrp="1"/>
          </p:cNvSpPr>
          <p:nvPr>
            <p:ph type="title"/>
          </p:nvPr>
        </p:nvSpPr>
        <p:spPr>
          <a:xfrm>
            <a:off x="0" y="6477120"/>
            <a:ext cx="91440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Πηγή: http://www.radiochemistry.org/periodictable/images/NuclearPeriodicTable.jpg</a:t>
            </a:r>
            <a:endParaRPr b="0" lang="en-US" sz="1800" spc="-1" strike="noStrike">
              <a:solidFill>
                <a:srgbClr val="000000"/>
              </a:solidFill>
              <a:latin typeface="Times New Roman"/>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772400" cy="624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Τα ιχνοστοιχεία, αλλά και τα κύρια και τα ελάχιστα στοιχεία, είναι ιδιαίτερης σπουδαιότητας στην αρχαιομετρία επειδή οι σχετικές τους ποσότητες που απαντώνται στη φύση μεταβάλλονται από τοποθεσία σε τοποθεσία και γι’ αυτό μπορούν να χρησιμοποιηθούν για την αναγνώριση αρχαιολογικών αντικειμένων.</a:t>
            </a:r>
            <a:endParaRPr b="0" lang="en-US" sz="3800" spc="-1" strike="noStrike">
              <a:solidFill>
                <a:srgbClr val="000000"/>
              </a:solidFill>
              <a:latin typeface="Times New Roman"/>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360"/>
            <a:ext cx="7772400" cy="6095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Νετρόνια </a:t>
            </a:r>
            <a:r>
              <a:rPr b="0" lang="en-US" sz="2800" spc="-1" strike="noStrike">
                <a:solidFill>
                  <a:srgbClr val="000000"/>
                </a:solidFill>
                <a:latin typeface="Wingdings"/>
                <a:ea typeface="Wingdings"/>
              </a:rPr>
              <a:t></a:t>
            </a:r>
            <a:r>
              <a:rPr b="0" lang="en-US" sz="2800" spc="-1" strike="noStrike">
                <a:solidFill>
                  <a:srgbClr val="000000"/>
                </a:solidFill>
                <a:latin typeface="Tahoma"/>
              </a:rPr>
              <a:t> παράγονται από πυρηνικές αντιδράσεις. Διακρίνονται σε ταχέα και βραδέα. Ο ρόλος τους είναι σημαντικός στην ανίχνευση ορισμένων στοιχείων.</a:t>
            </a:r>
            <a:endParaRPr b="0" lang="en-US" sz="2800" spc="-1" strike="noStrike">
              <a:solidFill>
                <a:srgbClr val="000000"/>
              </a:solidFill>
              <a:latin typeface="Times New Roman"/>
            </a:endParaRPr>
          </a:p>
          <a:p>
            <a:pPr marL="325800" indent="-3258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Οργανικές ουσίες </a:t>
            </a:r>
            <a:r>
              <a:rPr b="0" lang="en-US" sz="2800" spc="-1" strike="noStrike">
                <a:solidFill>
                  <a:srgbClr val="000000"/>
                </a:solidFill>
                <a:latin typeface="Wingdings"/>
                <a:ea typeface="Wingdings"/>
              </a:rPr>
              <a:t></a:t>
            </a:r>
            <a:r>
              <a:rPr b="0" lang="en-US" sz="2800" spc="-1" strike="noStrike">
                <a:solidFill>
                  <a:srgbClr val="000000"/>
                </a:solidFill>
                <a:latin typeface="Tahoma"/>
              </a:rPr>
              <a:t> δεν ορίζονται σαν ουσίες που παράγονται από ζώντες οργανισμούς. Πρόκειται για ενώσεις άνθρακα. Εξαιρούνται το μονοξείδιο του άνθρακα, το διοξείδιο του άνθρακα, τα καρβίδια, τα κυανιούχα άλατα και τα άλατα του ανθρακικού οξέος.</a:t>
            </a:r>
            <a:endParaRPr b="0" lang="en-US" sz="2800" spc="-1" strike="noStrike">
              <a:solidFill>
                <a:srgbClr val="000000"/>
              </a:solidFill>
              <a:latin typeface="Times New Roman"/>
            </a:endParaRPr>
          </a:p>
          <a:p>
            <a:pPr marL="325800" indent="-3258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νόργανες ουσίες </a:t>
            </a:r>
            <a:r>
              <a:rPr b="0" lang="en-US" sz="2800" spc="-1" strike="noStrike">
                <a:solidFill>
                  <a:srgbClr val="000000"/>
                </a:solidFill>
                <a:latin typeface="Wingdings"/>
                <a:ea typeface="Wingdings"/>
              </a:rPr>
              <a:t></a:t>
            </a:r>
            <a:r>
              <a:rPr b="0" lang="en-US" sz="2800" spc="-1" strike="noStrike">
                <a:solidFill>
                  <a:srgbClr val="000000"/>
                </a:solidFill>
                <a:latin typeface="Tahoma"/>
              </a:rPr>
              <a:t> αποτελούνται από στοιχεία εκτός του άνθρακα. Εξαίρεση τα δικαρβονικά. Ενώνονται με τη μορφή μικρών δακτυλίων ή αλυσίδων, π.χ. ανθρακικό ασβέστιο, θειικός χαλκός, πετρώματα [εκρηξιγενή, μεταμορφωσιγενή, ιζηματογενή]</a:t>
            </a:r>
            <a:endParaRPr b="0" lang="en-US" sz="2800" spc="-1" strike="noStrike">
              <a:solidFill>
                <a:srgbClr val="000000"/>
              </a:solidFill>
              <a:latin typeface="Times New Roman"/>
            </a:endParaRPr>
          </a:p>
        </p:txBody>
      </p:sp>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259920"/>
            <a:ext cx="7772400" cy="252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Οξείδωση</a:t>
            </a:r>
            <a:r>
              <a:rPr b="0" lang="el-GR" sz="2800" spc="-1" strike="noStrike">
                <a:solidFill>
                  <a:srgbClr val="000000"/>
                </a:solidFill>
                <a:latin typeface="Wingdings"/>
                <a:ea typeface="Wingdings"/>
              </a:rPr>
              <a:t></a:t>
            </a:r>
            <a:r>
              <a:rPr b="0" lang="el-GR" sz="2800" spc="-1" strike="noStrike">
                <a:solidFill>
                  <a:srgbClr val="000000"/>
                </a:solidFill>
                <a:latin typeface="Tahoma"/>
              </a:rPr>
              <a:t> </a:t>
            </a:r>
            <a:r>
              <a:rPr b="0" lang="en-US" sz="2800" spc="-1" strike="noStrike">
                <a:solidFill>
                  <a:srgbClr val="000000"/>
                </a:solidFill>
                <a:latin typeface="Tahoma"/>
              </a:rPr>
              <a:t>oxidation</a:t>
            </a:r>
            <a:r>
              <a:rPr b="0" lang="el-GR" sz="2800" spc="-1" strike="noStrike">
                <a:solidFill>
                  <a:srgbClr val="000000"/>
                </a:solidFill>
                <a:latin typeface="Tahoma"/>
              </a:rPr>
              <a:t>. Στη χημική αντίδραση οξείδωσης το άτομο χάνει ηλεκτρόνια. Κατά τη χημική αντίδραση αναγωγής το το άτομο προσλαμβάνει ηλεκτρόνια.</a:t>
            </a:r>
            <a:r>
              <a:rPr b="0" lang="en-US" sz="2800" spc="-1" strike="noStrike">
                <a:solidFill>
                  <a:srgbClr val="000000"/>
                </a:solidFill>
                <a:latin typeface="Tahoma"/>
              </a:rPr>
              <a:t> </a:t>
            </a:r>
            <a:r>
              <a:rPr b="0" lang="el-GR" sz="2800" spc="-1" strike="noStrike">
                <a:solidFill>
                  <a:srgbClr val="000000"/>
                </a:solidFill>
                <a:latin typeface="Tahoma"/>
              </a:rPr>
              <a:t>Ταυτόχρονες διαδικασίες, μιλάμε για οξειδοαναγωγικές αντιδράσεις. </a:t>
            </a:r>
            <a:endParaRPr b="0" lang="en-US" sz="2800" spc="-1" strike="noStrike">
              <a:solidFill>
                <a:srgbClr val="000000"/>
              </a:solidFill>
              <a:latin typeface="Times New Roman"/>
            </a:endParaRPr>
          </a:p>
        </p:txBody>
      </p:sp>
      <p:graphicFrame>
        <p:nvGraphicFramePr>
          <p:cNvPr id="51" name=""/>
          <p:cNvGraphicFramePr/>
          <p:nvPr/>
        </p:nvGraphicFramePr>
        <p:xfrm>
          <a:off x="457200" y="2565360"/>
          <a:ext cx="8305560" cy="3735360"/>
        </p:xfrm>
        <a:graphic>
          <a:graphicData uri="http://schemas.openxmlformats.org/drawingml/2006/table">
            <a:tbl>
              <a:tblPr/>
              <a:tblGrid>
                <a:gridCol w="4032360"/>
                <a:gridCol w="4273200"/>
              </a:tblGrid>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ΟΞΕΙΔΩΣ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ΑΝΑΓΩΓ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r h="246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ένωση ενός στοιχείου με το οξυγόνο</a:t>
                      </a:r>
                      <a:br>
                        <a:rPr sz="2600"/>
                      </a:br>
                      <a:r>
                        <a:rPr b="1" lang="en-US" sz="2600" spc="-1" strike="noStrike">
                          <a:solidFill>
                            <a:srgbClr val="000000"/>
                          </a:solidFill>
                          <a:latin typeface="Tahoma"/>
                        </a:rPr>
                        <a:t>ή η αφαίρεση υδρογόνου από μία ένωσ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ένωση ενός στοιχείου με το υδρογόνο </a:t>
                      </a:r>
                      <a:br>
                        <a:rPr sz="2600"/>
                      </a:br>
                      <a:r>
                        <a:rPr b="1" lang="en-US" sz="2600" spc="-1" strike="noStrike">
                          <a:solidFill>
                            <a:srgbClr val="000000"/>
                          </a:solidFill>
                          <a:latin typeface="Tahoma"/>
                        </a:rPr>
                        <a:t>ή η αφαίρεση οξυγόνου από μία ένωσ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αποβολή ηλεκτρονίων</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πρόσληψη ηλεκτρονίων</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αύξηση του αριθμού οξείδωσης (Α.Ο)</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μείωση του αριθμού οξείδωσης (Α.Ο)</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50560" y="259920"/>
            <a:ext cx="8567640" cy="626436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Ορυκτολογία </a:t>
            </a:r>
            <a:r>
              <a:rPr b="0" lang="en-US" sz="3200" spc="-1" strike="noStrike">
                <a:solidFill>
                  <a:srgbClr val="000000"/>
                </a:solidFill>
                <a:latin typeface="Wingdings"/>
                <a:ea typeface="Wingdings"/>
              </a:rPr>
              <a:t></a:t>
            </a:r>
            <a:r>
              <a:rPr b="0" lang="en-US" sz="3200" spc="-1" strike="noStrike">
                <a:solidFill>
                  <a:srgbClr val="000000"/>
                </a:solidFill>
                <a:latin typeface="Tahoma"/>
              </a:rPr>
              <a:t> μελέτη και εξέταση ορυκτών πετρωμάτων [κρυσταλλογραφική διάταξη, χημική μορφή, προσμίξεις, ιδιότητες]</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Περιθλασιόμετρο </a:t>
            </a:r>
            <a:r>
              <a:rPr b="0" lang="en-US" sz="3200" spc="-1" strike="noStrike">
                <a:solidFill>
                  <a:srgbClr val="000000"/>
                </a:solidFill>
                <a:latin typeface="Wingdings"/>
                <a:ea typeface="Wingdings"/>
              </a:rPr>
              <a:t></a:t>
            </a:r>
            <a:r>
              <a:rPr b="0" lang="en-US" sz="3200" spc="-1" strike="noStrike">
                <a:solidFill>
                  <a:srgbClr val="000000"/>
                </a:solidFill>
                <a:latin typeface="Tahoma"/>
              </a:rPr>
              <a:t>  χρησιμεύει για το διαχωρισμό μηκών κύματος ή ενέργειας και χρησιμοποιείται ιδιαίτερα στη φασματοσκοπία. </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Ραδιενέργεια, σωματίδια και ακτινοβολία </a:t>
            </a:r>
            <a:r>
              <a:rPr b="0" lang="en-US" sz="3200" spc="-1" strike="noStrike">
                <a:solidFill>
                  <a:srgbClr val="000000"/>
                </a:solidFill>
                <a:latin typeface="Wingdings"/>
                <a:ea typeface="Wingdings"/>
              </a:rPr>
              <a:t></a:t>
            </a:r>
            <a:r>
              <a:rPr b="0" lang="en-US" sz="3200" spc="-1" strike="noStrike">
                <a:solidFill>
                  <a:srgbClr val="000000"/>
                </a:solidFill>
                <a:latin typeface="Tahoma"/>
              </a:rPr>
              <a:t> η ραδιενέργεια μπορεί να είναι φυσική ή τεχνητή. Ισοδυναμεί με το φαινόμενο διάσπασης ή αποδιέγερσης του πυρήνα. Άμεσο αποτέλεσμα είναι η εκπομπή ακτινοβολίας. </a:t>
            </a:r>
            <a:endParaRPr b="0" lang="en-US" sz="3200" spc="-1" strike="noStrike">
              <a:solidFill>
                <a:srgbClr val="000000"/>
              </a:solidFill>
              <a:latin typeface="Times New Roman"/>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920" y="0"/>
            <a:ext cx="8153280" cy="68580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ahoma"/>
              </a:rPr>
              <a:t>Η ραδιενέργεια διακρίνεται σε τρεις κατηγορίες. </a:t>
            </a:r>
            <a:br>
              <a:rPr sz="3200"/>
            </a:br>
            <a:r>
              <a:rPr b="1" lang="el-GR" sz="3200" spc="-1" strike="noStrike">
                <a:solidFill>
                  <a:srgbClr val="000000"/>
                </a:solidFill>
                <a:latin typeface="Tahoma"/>
              </a:rPr>
              <a:t>Α)τα σωματίδια </a:t>
            </a:r>
            <a:r>
              <a:rPr b="1" lang="el-GR" sz="3200" spc="-1" strike="noStrike" u="sng">
                <a:solidFill>
                  <a:srgbClr val="000000"/>
                </a:solidFill>
                <a:uFillTx/>
                <a:latin typeface="Tahoma"/>
              </a:rPr>
              <a:t>άλφα</a:t>
            </a:r>
            <a:r>
              <a:rPr b="1" lang="el-GR" sz="3200" spc="-1" strike="noStrike">
                <a:solidFill>
                  <a:srgbClr val="000000"/>
                </a:solidFill>
                <a:latin typeface="Tahoma"/>
              </a:rPr>
              <a:t> που αποτελούνται από δύο πρωτόνια και δύο νετρόνια, τα οποία στην ουσία είναι μοναδικοί πυρήνες των ατόμων του ηλίου </a:t>
            </a:r>
            <a:r>
              <a:rPr b="1" lang="en-US" sz="3200" spc="-1" strike="noStrike">
                <a:solidFill>
                  <a:srgbClr val="000000"/>
                </a:solidFill>
                <a:latin typeface="Tahoma"/>
              </a:rPr>
              <a:t>He</a:t>
            </a:r>
            <a:r>
              <a:rPr b="1" lang="el-GR" sz="3200" spc="-1" strike="noStrike">
                <a:solidFill>
                  <a:srgbClr val="000000"/>
                </a:solidFill>
                <a:latin typeface="Tahoma"/>
              </a:rPr>
              <a:t>. </a:t>
            </a:r>
            <a:br>
              <a:rPr sz="3200"/>
            </a:br>
            <a:r>
              <a:rPr b="1" lang="el-GR" sz="3200" spc="-1" strike="noStrike">
                <a:solidFill>
                  <a:srgbClr val="000000"/>
                </a:solidFill>
                <a:latin typeface="Tahoma"/>
              </a:rPr>
              <a:t>Β) τα σωματίδια </a:t>
            </a:r>
            <a:r>
              <a:rPr b="1" lang="el-GR" sz="3200" spc="-1" strike="noStrike" u="sng">
                <a:solidFill>
                  <a:srgbClr val="000000"/>
                </a:solidFill>
                <a:uFillTx/>
                <a:latin typeface="Tahoma"/>
              </a:rPr>
              <a:t>βήτα</a:t>
            </a:r>
            <a:r>
              <a:rPr b="1" lang="en-US" sz="3200" spc="-1" strike="noStrike" u="sng" baseline="30000">
                <a:solidFill>
                  <a:srgbClr val="000000"/>
                </a:solidFill>
                <a:uFillTx/>
                <a:latin typeface="Tahoma"/>
              </a:rPr>
              <a:t>-</a:t>
            </a:r>
            <a:r>
              <a:rPr b="1" lang="el-GR" sz="3200" spc="-1" strike="noStrike">
                <a:solidFill>
                  <a:srgbClr val="000000"/>
                </a:solidFill>
                <a:latin typeface="Tahoma"/>
              </a:rPr>
              <a:t> που στην ουσία είναι ηλεκτρόνια τα οποία παράγονται στον πυρήνα μετά τη μετατροπή ενός νετρονίου σε πρωτόνιο και συνοδευόμενο από ηλεκτρόνιο και νετρίνο και </a:t>
            </a:r>
            <a:br>
              <a:rPr sz="3200"/>
            </a:br>
            <a:r>
              <a:rPr b="1" lang="el-GR" sz="3200" spc="-1" strike="noStrike">
                <a:solidFill>
                  <a:srgbClr val="000000"/>
                </a:solidFill>
                <a:latin typeface="Tahoma"/>
              </a:rPr>
              <a:t>Γ) οι ακτίνες </a:t>
            </a:r>
            <a:r>
              <a:rPr b="1" lang="el-GR" sz="3200" spc="-1" strike="noStrike" u="sng">
                <a:solidFill>
                  <a:srgbClr val="000000"/>
                </a:solidFill>
                <a:uFillTx/>
                <a:latin typeface="Tahoma"/>
              </a:rPr>
              <a:t>Γάμμα</a:t>
            </a:r>
            <a:r>
              <a:rPr b="1" lang="el-GR" sz="3200" spc="-1" strike="noStrike">
                <a:solidFill>
                  <a:srgbClr val="000000"/>
                </a:solidFill>
                <a:latin typeface="Tahoma"/>
              </a:rPr>
              <a:t>, δηλαδή φωτόνια, χωρίς φορτίο, που είναι τα βασικά στοιχεία στην ηλεκτρομαγνητική ακτινοβολία.</a:t>
            </a:r>
            <a:endParaRPr b="0" lang="en-US" sz="3200" spc="-1" strike="noStrike">
              <a:solidFill>
                <a:srgbClr val="000000"/>
              </a:solidFill>
              <a:latin typeface="Times New Roman"/>
            </a:endParaRPr>
          </a:p>
        </p:txBody>
      </p:sp>
    </p:spTree>
  </p:cSld>
  <p:transition>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333000"/>
            <a:ext cx="7772400" cy="62960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τρωματογραφία </a:t>
            </a:r>
            <a:r>
              <a:rPr b="0" lang="en-US" sz="3200" spc="-1" strike="noStrike">
                <a:solidFill>
                  <a:srgbClr val="000000"/>
                </a:solidFill>
                <a:latin typeface="Wingdings"/>
                <a:ea typeface="Wingdings"/>
              </a:rPr>
              <a:t></a:t>
            </a:r>
            <a:r>
              <a:rPr b="0" lang="en-US" sz="3200" spc="-1" strike="noStrike">
                <a:solidFill>
                  <a:srgbClr val="000000"/>
                </a:solidFill>
                <a:latin typeface="Tahoma"/>
              </a:rPr>
              <a:t> μελέτη και αξιολόγηση διαστρωμάτωσης ιζημάτων σε ανασκαφές πεδίου, τρόπος σχετικής χρονολόγησης των στρωμάτων </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έχνεργο </a:t>
            </a:r>
            <a:r>
              <a:rPr b="0" lang="en-US" sz="3200" spc="-1" strike="noStrike">
                <a:solidFill>
                  <a:srgbClr val="000000"/>
                </a:solidFill>
                <a:latin typeface="Wingdings"/>
                <a:ea typeface="Wingdings"/>
              </a:rPr>
              <a:t></a:t>
            </a:r>
            <a:r>
              <a:rPr b="0" lang="en-US" sz="3200" spc="-1" strike="noStrike">
                <a:solidFill>
                  <a:srgbClr val="000000"/>
                </a:solidFill>
                <a:latin typeface="Tahoma"/>
              </a:rPr>
              <a:t> κάθε τεχνητό αντικείμενο φτιαγμένο από πρώτη ύλη και χρησιμοποιημένο από τον άνθρωπο, όχι απαραίτητα εργαλείο.</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Ύλη </a:t>
            </a:r>
            <a:r>
              <a:rPr b="0" lang="en-US" sz="3200" spc="-1" strike="noStrike">
                <a:solidFill>
                  <a:srgbClr val="000000"/>
                </a:solidFill>
                <a:latin typeface="Wingdings"/>
                <a:ea typeface="Wingdings"/>
              </a:rPr>
              <a:t></a:t>
            </a:r>
            <a:r>
              <a:rPr b="0" lang="en-US" sz="3200" spc="-1" strike="noStrike">
                <a:solidFill>
                  <a:srgbClr val="000000"/>
                </a:solidFill>
                <a:latin typeface="Tahoma"/>
              </a:rPr>
              <a:t> στερεά, υγρή, αέρια και πλάσμα {διαθέτει μάζα, καταλαμβάνει όγκο, είναι ο πλήρης εξιονισμός ατόμων. Περιλαμβάνει όλα τα υλικά που αντιλαμβανόμαστε με τις αισθήσεις μας.</a:t>
            </a:r>
            <a:endParaRPr b="0" lang="en-US" sz="3200" spc="-1" strike="noStrike">
              <a:solidFill>
                <a:srgbClr val="000000"/>
              </a:solidFill>
              <a:latin typeface="Times New Roman"/>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Υλικά </a:t>
            </a:r>
            <a:r>
              <a:rPr b="0" lang="en-US" sz="3200" spc="-1" strike="noStrike">
                <a:solidFill>
                  <a:srgbClr val="000000"/>
                </a:solidFill>
                <a:latin typeface="Wingdings"/>
                <a:ea typeface="Wingdings"/>
              </a:rPr>
              <a:t></a:t>
            </a:r>
            <a:r>
              <a:rPr b="0" lang="en-US" sz="3200" spc="-1" strike="noStrike">
                <a:solidFill>
                  <a:srgbClr val="000000"/>
                </a:solidFill>
                <a:latin typeface="Tahoma"/>
              </a:rPr>
              <a:t> πηλός, γυαλί, ξύλο, νερό κ. ά. Μερικά υπάρχουν αυτοφυή στη φύση και μερικά κατασκευάζονται. Ως πρώτη ύλη είναι η ακατέργαστη μορφή της ύλης του αντικειμένου, που όταν κατεργαστεί μετατρέπεται σε τέχνεργο. Διακρίνονται σε ομογενή υλικά [έχουν τις ίδιες ιδιότητες] και σε ετερογενή υλικά που δεν έχουν ομοιόμορφη σύσταση και συνήθως αποκαλούνται μίγματα.</a:t>
            </a:r>
            <a:endParaRPr b="0" lang="en-US" sz="3200" spc="-1" strike="noStrike">
              <a:solidFill>
                <a:srgbClr val="000000"/>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ομογενή υλικά διακρίνονται με τη σειρά τους σε διαλύματα, που είναι κυρίως υγρά και ομογενή στο μοριακό επίπεδο, και σε ουσίες, που έχουν καθορισμένη σύσταση και φυσικές ιδιότητες. </a:t>
            </a: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260280"/>
            <a:ext cx="9144000" cy="6369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Φασματοσκοπία</a:t>
            </a:r>
            <a:r>
              <a:rPr b="0" lang="en-US" sz="3200" spc="-1" strike="noStrike">
                <a:solidFill>
                  <a:srgbClr val="000000"/>
                </a:solidFill>
                <a:latin typeface="Tahoma"/>
              </a:rPr>
              <a:t> (</a:t>
            </a:r>
            <a:r>
              <a:rPr b="0" lang="el-GR" sz="3200" spc="-1" strike="noStrike">
                <a:solidFill>
                  <a:srgbClr val="000000"/>
                </a:solidFill>
                <a:latin typeface="Tahoma"/>
              </a:rPr>
              <a:t>Ακτίνων Χ. γάμμα, μήκη κύματος)</a:t>
            </a:r>
            <a:r>
              <a:rPr b="0" lang="el-GR" sz="3200" spc="-1" strike="noStrike">
                <a:solidFill>
                  <a:srgbClr val="000000"/>
                </a:solidFill>
                <a:latin typeface="Wingdings"/>
                <a:ea typeface="Wingdings"/>
              </a:rPr>
              <a:t></a:t>
            </a:r>
            <a:r>
              <a:rPr b="0" lang="el-GR" sz="3200" spc="-1" strike="noStrike">
                <a:solidFill>
                  <a:srgbClr val="000000"/>
                </a:solidFill>
                <a:latin typeface="Tahoma"/>
              </a:rPr>
              <a:t> βασίζεται στη λήψη και επεξεργασία φασμάτων διαφόρων μηκών κύματος, τα οποία εκπέμπονται από άτομα που διεγείρονται με εξωτερικά αίτια. Τα φάσματα χρησιμοποιούνται για τον προσδιορισμό χημικών στοιχείων ή για τη χρονολόγηση αρχαιολογικών ευρημάτων. Ανάλογα με το φαινόμενο που μελετάται έχουμε φασματοσκοπία οπτικής εκπομπής, νετρονικής ανάλυσης, ακτίνων-Χ φθορισμού, ατομικής απορρόφησης κλπ.</a:t>
            </a:r>
            <a:endParaRPr b="0" lang="en-US" sz="3200" spc="-1" strike="noStrike">
              <a:solidFill>
                <a:srgbClr val="000000"/>
              </a:solidFill>
              <a:latin typeface="Times New Roman"/>
            </a:endParaRPr>
          </a:p>
        </p:txBody>
      </p:sp>
    </p:spTree>
  </p:cSld>
  <p:transition>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ΔΕ= Ε </a:t>
            </a:r>
            <a:r>
              <a:rPr b="0" lang="en-US" sz="4400" spc="-1" strike="noStrike" baseline="-25000">
                <a:solidFill>
                  <a:srgbClr val="000000"/>
                </a:solidFill>
                <a:latin typeface="Tahoma"/>
              </a:rPr>
              <a:t>αρχική τροχιά</a:t>
            </a:r>
            <a:r>
              <a:rPr b="0" lang="en-US" sz="4400" spc="-1" strike="noStrike">
                <a:solidFill>
                  <a:srgbClr val="000000"/>
                </a:solidFill>
                <a:latin typeface="Tahoma"/>
              </a:rPr>
              <a:t>- Ε </a:t>
            </a:r>
            <a:r>
              <a:rPr b="0" lang="en-US" sz="4400" spc="-1" strike="noStrike" baseline="-25000">
                <a:solidFill>
                  <a:srgbClr val="000000"/>
                </a:solidFill>
                <a:latin typeface="Tahoma"/>
              </a:rPr>
              <a:t>τελική τροχιά</a:t>
            </a:r>
            <a:br>
              <a:rPr sz="4400"/>
            </a:b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ιαφορετικές ενέργειες φωτός έχουν διαφορετικά μήκη κύματος </a:t>
            </a:r>
            <a:r>
              <a:rPr b="0" lang="en-US" sz="3200" spc="-1" strike="noStrike">
                <a:solidFill>
                  <a:srgbClr val="000000"/>
                </a:solidFill>
                <a:latin typeface="Wingdings"/>
                <a:ea typeface="Wingdings"/>
              </a:rPr>
              <a:t></a:t>
            </a:r>
            <a:r>
              <a:rPr b="0" lang="en-US" sz="3200" spc="-1" strike="noStrike">
                <a:solidFill>
                  <a:srgbClr val="000000"/>
                </a:solidFill>
                <a:latin typeface="Tahoma"/>
              </a:rPr>
              <a:t> χρώματα.</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Ένα φάσμα δίνει πληροφορίες για τη φύση των ενεργειακών επιπέδων που ανήκουν τα ηλεκτρόνια</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χρώματα αποκαλύπτουν τις διαφορές στις ενέργειες</a:t>
            </a:r>
            <a:endParaRPr b="0" lang="en-US" sz="3200" spc="-1" strike="noStrike">
              <a:solidFill>
                <a:srgbClr val="000000"/>
              </a:solidFill>
              <a:latin typeface="Times New Roman"/>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3:46:04Z</dcterms:created>
  <dc:creator> </dc:creator>
  <dc:description/>
  <dc:language>en-US</dc:language>
  <cp:lastModifiedBy> </cp:lastModifiedBy>
  <dcterms:modified xsi:type="dcterms:W3CDTF">2008-06-10T10:55:54Z</dcterms:modified>
  <cp:revision>13</cp:revision>
  <dc:subject/>
  <dc:title>Παρουσίαση του PowerPoint</dc:title>
</cp:coreProperties>
</file>